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A7A-42CA-40C3-A515-46278A9F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763520"/>
            <a:ext cx="8001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9AA-EAFE-4C49-8523-FE5AF9D1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76352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520" y="476352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AB9-E1CC-4F8C-828B-B932BBB5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2240" y="312408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7640" y="312408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76352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2240" y="476352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7640" y="476352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81C-173C-4FE2-94DB-10153925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B2607-FC6C-4D54-A58B-EB1E80E362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CF0F1-FD82-4C8B-B597-763B4821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B1E9B-1B49-4E65-B9E5-F16D2C98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89E25-E7AD-4AF4-A4DD-4B830544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404F0-B51F-4F74-A410-86F82151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142FF-A458-4AB1-9151-59BD8F77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76352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8DD35-C551-43AB-93E7-8CAF22EA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229-7707-4B56-AAEC-FCDE38D4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6520" y="476352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DA75B-B948-4549-B413-6186EE4F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763520"/>
            <a:ext cx="8001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7D4BB-28FE-470D-B5A9-AAC477A0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763520"/>
            <a:ext cx="8001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85E8A-F6BE-4E73-B55F-A4CCC779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76352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6520" y="476352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A6567-6256-4D19-A29B-9391C771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2240" y="312408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67640" y="312408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76352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2240" y="476352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67640" y="476352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F07BF-3118-40F4-9E2E-665A6CFC70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7BB-8EDD-4950-A714-88721953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D0E-7F75-4D57-900A-C718B31C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BCE-B4E7-4E3F-85B4-FEB4FF9A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10B-9AC9-45E6-970B-78871C01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76352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F1F-51FD-466E-A61A-C2E1EB47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520" y="476352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A2A-DF4C-443F-B309-7604851D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763520"/>
            <a:ext cx="8001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645-021D-44F1-BECA-3590A5A0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c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spcBef>
                <a:spcPts val="799"/>
              </a:spcBef>
              <a:buClr>
                <a:srgbClr val="f86c2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42960" indent="-17136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B65D-362A-4BDE-B591-F19F2B64C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520" y="609480"/>
            <a:ext cx="49532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6c2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86c28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98AE-0746-423A-916A-6321F3179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c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80c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6c28"/>
                </a:solidFill>
                <a:latin typeface="Tahoma"/>
              </a:rPr>
              <a:t>Second Outline Level</a:t>
            </a:r>
            <a:endParaRPr b="0" i="1" lang="en-US" sz="2800" spc="-1" strike="noStrike">
              <a:solidFill>
                <a:srgbClr val="f86c2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52320" y="609480"/>
            <a:ext cx="5410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86c28"/>
                </a:solidFill>
                <a:latin typeface="Verdana"/>
              </a:rPr>
              <a:t>Data Protection: Workplace, Health and Safety</a:t>
            </a:r>
            <a:endParaRPr b="0" lang="en-US" sz="4000" spc="-1" strike="noStrike">
              <a:solidFill>
                <a:srgbClr val="f86c28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Drug testing -Justification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Health and safety on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ost incident gener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Drugs and alcohol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80c0"/>
                </a:solidFill>
                <a:latin typeface="Verdana"/>
              </a:rPr>
              <a:t>Safety, Health and Welfare at Work Act </a:t>
            </a:r>
            <a:endParaRPr b="0" lang="en-US" sz="40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80010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Safety, Health and Welfare at Work Act 20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Duties of employer and employees, Safety Statement, risk assessment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Section 13 –employee to take reasonable care  to protect safety, ensure not under influence of  an intoxicant to the extent that endangers saf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13c- if reasonably required by employer, submit to any appropriate, reasonable and proportionate tests for intoxicants by, or under the supervision of , a registered medical practitio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Implies unobtrusiveness. Only safety sensitive areas. Must operate alongside requirements of Data Protection 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Expect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Clear purpose for col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Aware of the extent and wh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80c0"/>
                </a:solidFill>
                <a:latin typeface="Verdana"/>
              </a:rPr>
              <a:t>Drugs-Minimum information in drug tests</a:t>
            </a:r>
            <a:endParaRPr b="0" lang="en-US" sz="40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Convince or indeed prove  why it is </a:t>
            </a: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significantly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better than other less intrusive means to be prov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Use the least intrusive test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ell staff what drugs they are being tested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Limit to substances and extent of exposure that will have a </a:t>
            </a: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significant bearing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on the purpose of the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rogrammes  for support and awareness to be set up –to enable safety objectives to be achieved without testing. (Employee Assistance Program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Drug testing-Fair procedures 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Be upfront from the st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f its random, its random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in reality and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f other criteria are being used workers should be aware of this al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otect confidentiality/medical secre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Drug testing-Critical areas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All workers being tested is </a:t>
            </a: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rarely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jus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Define the </a:t>
            </a: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critical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What are the criteria for ‘critical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80c0"/>
                </a:solidFill>
                <a:latin typeface="Tahoma"/>
              </a:rPr>
              <a:t>Secto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b37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f86c28"/>
                </a:solidFill>
                <a:latin typeface="Tahoma"/>
              </a:rPr>
              <a:t>Health Record (food preparation)</a:t>
            </a:r>
            <a:endParaRPr b="0" i="1" lang="en-US" sz="1800" spc="-1" strike="noStrike">
              <a:solidFill>
                <a:srgbClr val="f86c2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b37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f86c28"/>
                </a:solidFill>
                <a:latin typeface="Tahoma"/>
              </a:rPr>
              <a:t>Criminal Conviction (Dept of Justice)</a:t>
            </a:r>
            <a:endParaRPr b="0" i="1" lang="en-US" sz="1800" spc="-1" strike="noStrike">
              <a:solidFill>
                <a:srgbClr val="f86c2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b37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f86c28"/>
                </a:solidFill>
                <a:latin typeface="Tahoma"/>
              </a:rPr>
              <a:t>Driving Conviction (Delivery)</a:t>
            </a:r>
            <a:endParaRPr b="0" i="1" lang="en-US" sz="1800" spc="-1" strike="noStrike">
              <a:solidFill>
                <a:srgbClr val="f86c2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b37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f86c28"/>
                </a:solidFill>
                <a:latin typeface="Tahoma"/>
              </a:rPr>
              <a:t>Child Care Workers</a:t>
            </a:r>
            <a:endParaRPr b="0" i="1" lang="en-US" sz="1800" spc="-1" strike="noStrike">
              <a:solidFill>
                <a:srgbClr val="f86c2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b37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f86c28"/>
                </a:solidFill>
                <a:latin typeface="Tahoma"/>
              </a:rPr>
              <a:t>Airline pilots</a:t>
            </a:r>
            <a:endParaRPr b="0" i="1" lang="en-US" sz="1800" spc="-1" strike="noStrike">
              <a:solidFill>
                <a:srgbClr val="f86c2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80c0"/>
                </a:solidFill>
                <a:latin typeface="Verdana"/>
              </a:rPr>
              <a:t>Drug testing -Awareness</a:t>
            </a:r>
            <a:br>
              <a:rPr sz="4000"/>
            </a:br>
            <a:endParaRPr b="0" lang="en-US" sz="40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Testing Policy clearly stat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Staff handbook –encourage responsibility in safety critical a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Consumption of drugs (including medicines) or alcohol risks weakening facul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Consequences of breaches to be expla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Do not conduct testing on samples collected </a:t>
            </a:r>
            <a:r>
              <a:rPr b="1" lang="en-IE" sz="2400" spc="-1" strike="noStrike">
                <a:solidFill>
                  <a:srgbClr val="ff0000"/>
                </a:solidFill>
                <a:latin typeface="Tahoma"/>
              </a:rPr>
              <a:t>without</a:t>
            </a: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 the knowledge of the wo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 </a:t>
            </a: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Drug Testing procedures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85264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Technical quality to be param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Rigorous integrity and quality control 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Professional compete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Duplicate samples independently analysed when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Tests may not be always accurate and have an appropriate disputes handling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Correct inaccurate data on personnel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Provide for counselling if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Genetic Testing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Disability Act 2005 (Part 4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86c2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86c28"/>
                </a:solidFill>
                <a:latin typeface="Tahoma"/>
              </a:rPr>
              <a:t>Informed</a:t>
            </a:r>
            <a:r>
              <a:rPr b="0" i="1" lang="en-IE" sz="2800" spc="-1" strike="noStrike">
                <a:solidFill>
                  <a:srgbClr val="f86c28"/>
                </a:solidFill>
                <a:latin typeface="Tahoma"/>
              </a:rPr>
              <a:t> consent of data subject required</a:t>
            </a:r>
            <a:endParaRPr b="0" i="1" lang="en-US" sz="2800" spc="-1" strike="noStrike">
              <a:solidFill>
                <a:srgbClr val="f86c2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86c2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86c28"/>
                </a:solidFill>
                <a:latin typeface="Tahoma"/>
              </a:rPr>
              <a:t> </a:t>
            </a:r>
            <a:r>
              <a:rPr b="1" lang="en-IE" sz="2800" spc="-1" strike="noStrike">
                <a:solidFill>
                  <a:srgbClr val="f86c28"/>
                </a:solidFill>
                <a:latin typeface="Tahoma"/>
              </a:rPr>
              <a:t>Prohibited</a:t>
            </a:r>
            <a:r>
              <a:rPr b="0" i="1" lang="en-IE" sz="2800" spc="-1" strike="noStrike">
                <a:solidFill>
                  <a:srgbClr val="f86c28"/>
                </a:solidFill>
                <a:latin typeface="Tahoma"/>
              </a:rPr>
              <a:t> in relation to insurance policies, pensions, and mortgages</a:t>
            </a:r>
            <a:endParaRPr b="0" i="1" lang="en-US" sz="2800" spc="-1" strike="noStrike">
              <a:solidFill>
                <a:srgbClr val="f86c2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86c2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86c28"/>
                </a:solidFill>
                <a:latin typeface="Tahoma"/>
              </a:rPr>
              <a:t>Subject to </a:t>
            </a:r>
            <a:r>
              <a:rPr b="1" lang="en-IE" sz="2800" spc="-1" strike="noStrike">
                <a:solidFill>
                  <a:srgbClr val="f86c28"/>
                </a:solidFill>
                <a:latin typeface="Tahoma"/>
              </a:rPr>
              <a:t>DPC prior approval</a:t>
            </a:r>
            <a:r>
              <a:rPr b="0" i="1" lang="en-IE" sz="2800" spc="-1" strike="noStrike">
                <a:solidFill>
                  <a:srgbClr val="f86c28"/>
                </a:solidFill>
                <a:latin typeface="Tahoma"/>
              </a:rPr>
              <a:t> in relation to employment</a:t>
            </a:r>
            <a:endParaRPr b="0" i="1" lang="en-US" sz="2800" spc="-1" strike="noStrike">
              <a:solidFill>
                <a:srgbClr val="f86c2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Employers’ responsibilities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b3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ahoma"/>
              </a:rPr>
              <a:t>Employer obliged to provide safe place of work. Safety, Health and Welfare at Work Act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b3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ahoma"/>
              </a:rPr>
              <a:t>Monitoring (email, cctv?) –in context of risk- health &amp; safety abuses , instances of bullying. Must be necessary, proportionate and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Workplace privacy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2436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Tahoma"/>
              </a:rPr>
              <a:t>Acceptance that employees have a right to privacy – even in the workpla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Tahoma"/>
              </a:rPr>
              <a:t>This right must be balanced with employer’s legitimate intere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ahoma"/>
              </a:rPr>
              <a:t>Any limitation of the employees right to privacy should be </a:t>
            </a:r>
            <a:r>
              <a:rPr b="1" lang="en-NZ" sz="1600" spc="-1" strike="noStrike">
                <a:solidFill>
                  <a:srgbClr val="0080c0"/>
                </a:solidFill>
                <a:latin typeface="Tahoma"/>
              </a:rPr>
              <a:t>proportionate</a:t>
            </a:r>
            <a:r>
              <a:rPr b="1" lang="en-NZ" sz="1600" spc="-1" strike="noStrike">
                <a:solidFill>
                  <a:srgbClr val="000000"/>
                </a:solidFill>
                <a:latin typeface="Tahoma"/>
              </a:rPr>
              <a:t> to the likely damage to the employer’s legitimate interes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33480" y="3124080"/>
            <a:ext cx="392436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0000"/>
                </a:solidFill>
                <a:latin typeface="Tahoma"/>
              </a:rPr>
              <a:t>Before any monitoring takes place, employees should be notified of this and its purpos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ahoma"/>
              </a:rPr>
              <a:t>Ideally, a policy should be availab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ahoma"/>
              </a:rPr>
              <a:t>Opinions given in confidence or in  the expectation of confidence  may not be granted a subject access request </a:t>
            </a:r>
            <a:r>
              <a:rPr b="1" lang="en-NZ" sz="1600" spc="-1" strike="noStrike">
                <a:solidFill>
                  <a:srgbClr val="ff0000"/>
                </a:solidFill>
                <a:latin typeface="Tahoma"/>
              </a:rPr>
              <a:t>but this demands a high threshold of proof from the D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Health-Workplace issues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Health is sensitive data in data protection la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Health and safety, prevent discrimination, satisfy legal obligations, employment requirements or explicit consent gi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Consent to be freely gi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80c0"/>
                </a:solidFill>
                <a:latin typeface="Verdana"/>
              </a:rPr>
              <a:t>Access to health information</a:t>
            </a:r>
            <a:endParaRPr b="0" lang="en-US" sz="40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Direct access by the data subject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subject to consultation with his/her GP (or some other health professional in employment context) 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to ensure that access would not be “likely to cause serious harm to the physical or mental health of the data subjec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S.I. No. 82/198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Purpose for collection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Review Current pract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Data to be adequate, relevant and not exces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mpact assessment on why you need this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Security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Need to know and necessary to establish fitness to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Anonymised information to safety representatives in gen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Secure  from other personnel rec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Necessary/Proportionate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Only collect what is necess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Fitness to work rather than general health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Restricted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oportionate to r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Good practice in general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lear policy and workers are aware of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ollect information when appropriate-appointment, health and safety program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overt obtaining contrary to DP Acts gener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2:46:02Z</dcterms:created>
  <dc:creator>rd</dc:creator>
  <dc:description/>
  <dc:language>en-US</dc:language>
  <cp:lastModifiedBy>Philip G. Ormond</cp:lastModifiedBy>
  <dcterms:modified xsi:type="dcterms:W3CDTF">2009-05-15T14:40:00Z</dcterms:modified>
  <cp:revision>198</cp:revision>
  <dc:subject/>
  <dc:title>Data Protection and the Health Sector</dc:title>
</cp:coreProperties>
</file>