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670675" cy="98488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65BE-0815-4939-BFBC-C4D79CF60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c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8001000" cy="14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4763520"/>
            <a:ext cx="8001000" cy="14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23BE-883E-4BFA-9AE2-690E2E5EE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c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3904200" cy="14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56520" y="3124080"/>
            <a:ext cx="3904200" cy="14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4763520"/>
            <a:ext cx="3904200" cy="14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56520" y="4763520"/>
            <a:ext cx="3904200" cy="14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B7EF-4B6E-4015-A657-35A63218F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c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2576160" cy="14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2240" y="3124080"/>
            <a:ext cx="2576160" cy="14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67640" y="3124080"/>
            <a:ext cx="2576160" cy="14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4763520"/>
            <a:ext cx="2576160" cy="14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2240" y="4763520"/>
            <a:ext cx="2576160" cy="14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67640" y="4763520"/>
            <a:ext cx="2576160" cy="14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569B-246F-4C15-BC4E-89647280A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FDB9AA-F445-4ACB-96CB-E58EE7F900D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c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3124080"/>
            <a:ext cx="8001000" cy="31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493536-55C7-4576-A04F-BEFE644D8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c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8001000" cy="31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A4E5DF-17CC-427C-9479-9900B4F69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c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3904200" cy="31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556520" y="3124080"/>
            <a:ext cx="3904200" cy="31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3ECA1E-F8DF-4069-9C8E-2FAB61B4F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5FD740-EF65-4882-B3EB-8BEED7FA3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8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17162C-20E8-4750-A9D0-C30C9D064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c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3904200" cy="14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56520" y="3124080"/>
            <a:ext cx="3904200" cy="31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763520"/>
            <a:ext cx="3904200" cy="14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8ED132-08D7-44CE-9085-5A36D2A91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c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3124080"/>
            <a:ext cx="8001000" cy="31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B2B3-4294-42E2-A219-D10EFF3B6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c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3904200" cy="31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56520" y="3124080"/>
            <a:ext cx="3904200" cy="14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56520" y="4763520"/>
            <a:ext cx="3904200" cy="14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387AF9-6B21-4CF5-A850-BA9241DF1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c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3904200" cy="14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56520" y="3124080"/>
            <a:ext cx="3904200" cy="14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763520"/>
            <a:ext cx="8001000" cy="14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C96095-99A6-40A6-9942-FBDC58ED4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c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8001000" cy="14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763520"/>
            <a:ext cx="8001000" cy="14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0162F6-EA89-4077-912C-7547DBA60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c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3904200" cy="14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56520" y="3124080"/>
            <a:ext cx="3904200" cy="14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763520"/>
            <a:ext cx="3904200" cy="14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56520" y="4763520"/>
            <a:ext cx="3904200" cy="14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31F86A-E195-4177-B532-A1CEF7B3A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c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2576160" cy="14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62240" y="3124080"/>
            <a:ext cx="2576160" cy="14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867640" y="3124080"/>
            <a:ext cx="2576160" cy="14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763520"/>
            <a:ext cx="2576160" cy="14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62240" y="4763520"/>
            <a:ext cx="2576160" cy="14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867640" y="4763520"/>
            <a:ext cx="2576160" cy="14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A2519E-AD4F-48C4-8B98-6B0AC58A903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c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8001000" cy="31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DF29-9AEA-4502-9F02-7789DBF30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c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3904200" cy="31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56520" y="3124080"/>
            <a:ext cx="3904200" cy="31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9501-F64E-4A48-894B-1F49FE01B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9A82-DCBF-480C-A8C7-5B6DB81DF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8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E44A-A6C8-4736-887C-128834F5E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c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3904200" cy="14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56520" y="3124080"/>
            <a:ext cx="3904200" cy="31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4763520"/>
            <a:ext cx="3904200" cy="14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5E45-FD8B-4F17-BA84-229686391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c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3904200" cy="31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56520" y="3124080"/>
            <a:ext cx="3904200" cy="14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6520" y="4763520"/>
            <a:ext cx="3904200" cy="14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B27C-94CC-481C-95B1-8C9034CB8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c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3904200" cy="14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56520" y="3124080"/>
            <a:ext cx="3904200" cy="14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4763520"/>
            <a:ext cx="8001000" cy="14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DFA9-4DBE-4E3E-8E24-95CF61136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c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80c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3124080"/>
            <a:ext cx="8001000" cy="31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799"/>
              </a:spcBef>
              <a:buClr>
                <a:srgbClr val="f86c2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557280" indent="-214200">
              <a:spcBef>
                <a:spcPts val="799"/>
              </a:spcBef>
              <a:buClr>
                <a:srgbClr val="f86c28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857160" indent="-1713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199880" indent="-1713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1542960" indent="-17136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1542960" indent="-1713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1542960" indent="-1713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DD70B-1339-43A5-A570-E419419632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9520" y="609480"/>
            <a:ext cx="49532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6c2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86c28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5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DF5FF-9CE1-452F-AB81-8BA9695F1F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c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80c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86c28"/>
                </a:solidFill>
                <a:latin typeface="Tahoma"/>
              </a:rPr>
              <a:t>Second Outline Level</a:t>
            </a:r>
            <a:endParaRPr b="0" i="1" lang="en-US" sz="2800" spc="-1" strike="noStrike">
              <a:solidFill>
                <a:srgbClr val="f86c2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352320" y="609480"/>
            <a:ext cx="54104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f86c28"/>
                </a:solidFill>
                <a:latin typeface="Verdana"/>
              </a:rPr>
              <a:t>Data Protection: Workplace, Health and Safety</a:t>
            </a:r>
            <a:endParaRPr b="0" lang="en-US" sz="4000" spc="-1" strike="noStrike">
              <a:solidFill>
                <a:srgbClr val="f86c28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80c0"/>
                </a:solidFill>
                <a:latin typeface="Verdana"/>
              </a:rPr>
              <a:t>Drug testing -Justification</a:t>
            </a:r>
            <a:endParaRPr b="0" lang="en-US" sz="4400" spc="-1" strike="noStrike">
              <a:solidFill>
                <a:srgbClr val="0080c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8001000" cy="31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86c2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Health and safety on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86c2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Post incident gener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86c2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Drugs and alcohol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1267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80c0"/>
                </a:solidFill>
                <a:latin typeface="Verdana"/>
              </a:rPr>
              <a:t>Safety, Health and Welfare at Work Act </a:t>
            </a:r>
            <a:endParaRPr b="0" lang="en-US" sz="4000" spc="-1" strike="noStrike">
              <a:solidFill>
                <a:srgbClr val="0080c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8001000" cy="43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86c2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Tahoma"/>
              </a:rPr>
              <a:t>Safety, Health and Welfare at Work Act 200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86c2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Tahoma"/>
              </a:rPr>
              <a:t>Duties of employer and employees, Safety Statement, risk assessment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86c2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Tahoma"/>
              </a:rPr>
              <a:t>Section 13 –employee to take reasonable care  to protect safety, ensure not under influence of  an intoxicant to the extent that endangers saf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86c2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Tahoma"/>
              </a:rPr>
              <a:t>13c- if reasonably required by employer, submit to any appropriate, reasonable and proportionate tests for intoxicants by, or under the supervision of , a registered medical practitio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86c2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Tahoma"/>
              </a:rPr>
              <a:t>Implies unobtrusiveness. Only safety sensitive areas. Must operate alongside requirements of Data Protection A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86c2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Tahoma"/>
              </a:rPr>
              <a:t>Expect privac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86c2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Tahoma"/>
              </a:rPr>
              <a:t>Clear purpose for col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86c2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Tahoma"/>
              </a:rPr>
              <a:t>Aware of the extent and wh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80c0"/>
                </a:solidFill>
                <a:latin typeface="Verdana"/>
              </a:rPr>
              <a:t>Drugs-Minimum information in drug tests</a:t>
            </a:r>
            <a:endParaRPr b="0" lang="en-US" sz="4000" spc="-1" strike="noStrike">
              <a:solidFill>
                <a:srgbClr val="0080c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8001000" cy="31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86c2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ahoma"/>
              </a:rPr>
              <a:t>Convince or indeed prove  why it is </a:t>
            </a:r>
            <a:r>
              <a:rPr b="0" lang="en-IE" sz="2400" spc="-1" strike="noStrike">
                <a:solidFill>
                  <a:srgbClr val="ff0000"/>
                </a:solidFill>
                <a:latin typeface="Tahoma"/>
              </a:rPr>
              <a:t>significantly </a:t>
            </a:r>
            <a:r>
              <a:rPr b="0" lang="en-IE" sz="2400" spc="-1" strike="noStrike">
                <a:solidFill>
                  <a:srgbClr val="000000"/>
                </a:solidFill>
                <a:latin typeface="Tahoma"/>
              </a:rPr>
              <a:t>better than other less intrusive means to be prov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86c2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ahoma"/>
              </a:rPr>
              <a:t>Use the least intrusive testing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86c2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ahoma"/>
              </a:rPr>
              <a:t>Tell staff what drugs they are being tested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86c2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ahoma"/>
              </a:rPr>
              <a:t>Limit to substances and extent of exposure that will have a </a:t>
            </a:r>
            <a:r>
              <a:rPr b="0" lang="en-IE" sz="2400" spc="-1" strike="noStrike">
                <a:solidFill>
                  <a:srgbClr val="ff0000"/>
                </a:solidFill>
                <a:latin typeface="Tahoma"/>
              </a:rPr>
              <a:t>significant bearing</a:t>
            </a:r>
            <a:r>
              <a:rPr b="0" lang="en-IE" sz="2400" spc="-1" strike="noStrike">
                <a:solidFill>
                  <a:srgbClr val="000000"/>
                </a:solidFill>
                <a:latin typeface="Tahoma"/>
              </a:rPr>
              <a:t> on the purpose of the t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86c2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ahoma"/>
              </a:rPr>
              <a:t>Programmes  for support and awareness to be set up –to enable safety objectives to be achieved without testing. (Employee Assistance Program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80c0"/>
                </a:solidFill>
                <a:latin typeface="Verdana"/>
              </a:rPr>
              <a:t>Drug testing-Fair procedures </a:t>
            </a:r>
            <a:endParaRPr b="0" lang="en-US" sz="4400" spc="-1" strike="noStrike">
              <a:solidFill>
                <a:srgbClr val="0080c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8001000" cy="31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86c2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Be upfront from the sta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86c2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If its random, its random </a:t>
            </a:r>
            <a:r>
              <a:rPr b="0" lang="en-IE" sz="3200" spc="-1" strike="noStrike">
                <a:solidFill>
                  <a:srgbClr val="ff0000"/>
                </a:solidFill>
                <a:latin typeface="Tahoma"/>
              </a:rPr>
              <a:t>in reality and pract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86c2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If other criteria are being used workers should be aware of this als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86c2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Protect confidentiality/medical secre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80c0"/>
                </a:solidFill>
                <a:latin typeface="Verdana"/>
              </a:rPr>
              <a:t>Drug testing-Critical areas</a:t>
            </a:r>
            <a:endParaRPr b="0" lang="en-US" sz="4400" spc="-1" strike="noStrike">
              <a:solidFill>
                <a:srgbClr val="0080c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8001000" cy="31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86c2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ahoma"/>
              </a:rPr>
              <a:t>All workers being tested is </a:t>
            </a:r>
            <a:r>
              <a:rPr b="0" lang="en-IE" sz="2400" spc="-1" strike="noStrike">
                <a:solidFill>
                  <a:srgbClr val="ff0000"/>
                </a:solidFill>
                <a:latin typeface="Tahoma"/>
              </a:rPr>
              <a:t>rarely</a:t>
            </a:r>
            <a:r>
              <a:rPr b="0" lang="en-IE" sz="2400" spc="-1" strike="noStrike">
                <a:solidFill>
                  <a:srgbClr val="000000"/>
                </a:solidFill>
                <a:latin typeface="Tahoma"/>
              </a:rPr>
              <a:t> jus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86c2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ahoma"/>
              </a:rPr>
              <a:t>Define the </a:t>
            </a:r>
            <a:r>
              <a:rPr b="0" lang="en-IE" sz="2400" spc="-1" strike="noStrike">
                <a:solidFill>
                  <a:srgbClr val="ff0000"/>
                </a:solidFill>
                <a:latin typeface="Tahoma"/>
              </a:rPr>
              <a:t>critical </a:t>
            </a:r>
            <a:r>
              <a:rPr b="0" lang="en-IE" sz="2400" spc="-1" strike="noStrike">
                <a:solidFill>
                  <a:srgbClr val="000000"/>
                </a:solidFill>
                <a:latin typeface="Tahoma"/>
              </a:rPr>
              <a:t>are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86c2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ahoma"/>
              </a:rPr>
              <a:t>What are the criteria for ‘critical’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80c0"/>
                </a:solidFill>
                <a:latin typeface="Tahoma"/>
              </a:rPr>
              <a:t>Secto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b374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1800" spc="-1" strike="noStrike">
                <a:solidFill>
                  <a:srgbClr val="f86c28"/>
                </a:solidFill>
                <a:latin typeface="Tahoma"/>
              </a:rPr>
              <a:t>Health Record (food preparation)</a:t>
            </a:r>
            <a:endParaRPr b="0" i="1" lang="en-US" sz="1800" spc="-1" strike="noStrike">
              <a:solidFill>
                <a:srgbClr val="f86c28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b374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1800" spc="-1" strike="noStrike">
                <a:solidFill>
                  <a:srgbClr val="f86c28"/>
                </a:solidFill>
                <a:latin typeface="Tahoma"/>
              </a:rPr>
              <a:t>Criminal Conviction (Dept of Justice)</a:t>
            </a:r>
            <a:endParaRPr b="0" i="1" lang="en-US" sz="1800" spc="-1" strike="noStrike">
              <a:solidFill>
                <a:srgbClr val="f86c28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b374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1800" spc="-1" strike="noStrike">
                <a:solidFill>
                  <a:srgbClr val="f86c28"/>
                </a:solidFill>
                <a:latin typeface="Tahoma"/>
              </a:rPr>
              <a:t>Driving Conviction (Delivery)</a:t>
            </a:r>
            <a:endParaRPr b="0" i="1" lang="en-US" sz="1800" spc="-1" strike="noStrike">
              <a:solidFill>
                <a:srgbClr val="f86c28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b374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1800" spc="-1" strike="noStrike">
                <a:solidFill>
                  <a:srgbClr val="f86c28"/>
                </a:solidFill>
                <a:latin typeface="Tahoma"/>
              </a:rPr>
              <a:t>Child Care Workers</a:t>
            </a:r>
            <a:endParaRPr b="0" i="1" lang="en-US" sz="1800" spc="-1" strike="noStrike">
              <a:solidFill>
                <a:srgbClr val="f86c28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b374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1800" spc="-1" strike="noStrike">
                <a:solidFill>
                  <a:srgbClr val="f86c28"/>
                </a:solidFill>
                <a:latin typeface="Tahoma"/>
              </a:rPr>
              <a:t>Airline pilots</a:t>
            </a:r>
            <a:endParaRPr b="0" i="1" lang="en-US" sz="1800" spc="-1" strike="noStrike">
              <a:solidFill>
                <a:srgbClr val="f86c28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80c0"/>
                </a:solidFill>
                <a:latin typeface="Verdana"/>
              </a:rPr>
              <a:t>Drug testing -Awareness</a:t>
            </a:r>
            <a:br>
              <a:rPr sz="4000"/>
            </a:br>
            <a:endParaRPr b="0" lang="en-US" sz="4000" spc="-1" strike="noStrike">
              <a:solidFill>
                <a:srgbClr val="0080c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8001000" cy="31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86c2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Tahoma"/>
              </a:rPr>
              <a:t>Testing Policy clearly stated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86c2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Tahoma"/>
              </a:rPr>
              <a:t>Staff handbook –encourage responsibility in safety critical are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86c2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Tahoma"/>
              </a:rPr>
              <a:t>Consumption of drugs (including medicines) or alcohol risks weakening facul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86c2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Tahoma"/>
              </a:rPr>
              <a:t>Consequences of breaches to be expla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86c2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Tahoma"/>
              </a:rPr>
              <a:t>Do not conduct testing on samples collected </a:t>
            </a:r>
            <a:r>
              <a:rPr b="1" lang="en-IE" sz="2400" spc="-1" strike="noStrike">
                <a:solidFill>
                  <a:srgbClr val="ff0000"/>
                </a:solidFill>
                <a:latin typeface="Tahoma"/>
              </a:rPr>
              <a:t>without</a:t>
            </a:r>
            <a:r>
              <a:rPr b="1" lang="en-IE" sz="2400" spc="-1" strike="noStrike">
                <a:solidFill>
                  <a:srgbClr val="000000"/>
                </a:solidFill>
                <a:latin typeface="Tahoma"/>
              </a:rPr>
              <a:t> the knowledge of the wo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80c0"/>
                </a:solidFill>
                <a:latin typeface="Verdana"/>
              </a:rPr>
              <a:t> </a:t>
            </a:r>
            <a:r>
              <a:rPr b="0" lang="en-IE" sz="4400" spc="-1" strike="noStrike">
                <a:solidFill>
                  <a:srgbClr val="0080c0"/>
                </a:solidFill>
                <a:latin typeface="Verdana"/>
              </a:rPr>
              <a:t>Drug Testing procedures</a:t>
            </a:r>
            <a:endParaRPr b="0" lang="en-US" sz="4400" spc="-1" strike="noStrike">
              <a:solidFill>
                <a:srgbClr val="0080c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000" y="2852640"/>
            <a:ext cx="8001000" cy="31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86c2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Tahoma"/>
              </a:rPr>
              <a:t>Technical quality to be paramou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86c2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Tahoma"/>
              </a:rPr>
              <a:t>Rigorous integrity and quality control procedu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86c2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Tahoma"/>
              </a:rPr>
              <a:t>Professional competenc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86c2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Tahoma"/>
              </a:rPr>
              <a:t>Duplicate samples independently analysed when necessa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86c2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Tahoma"/>
              </a:rPr>
              <a:t>Tests may not be always accurate and have an appropriate disputes handling proced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86c2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Tahoma"/>
              </a:rPr>
              <a:t>Correct inaccurate data on personnel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86c2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Tahoma"/>
              </a:rPr>
              <a:t>Provide for counselling if necessa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80c0"/>
                </a:solidFill>
                <a:latin typeface="Verdana"/>
              </a:rPr>
              <a:t>Genetic Testing</a:t>
            </a:r>
            <a:endParaRPr b="0" lang="en-US" sz="4400" spc="-1" strike="noStrike">
              <a:solidFill>
                <a:srgbClr val="0080c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8001000" cy="31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86c2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Disability Act 2005 (Part 4)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86c28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86c28"/>
                </a:solidFill>
                <a:latin typeface="Tahoma"/>
              </a:rPr>
              <a:t>Informed</a:t>
            </a:r>
            <a:r>
              <a:rPr b="0" i="1" lang="en-IE" sz="2800" spc="-1" strike="noStrike">
                <a:solidFill>
                  <a:srgbClr val="f86c28"/>
                </a:solidFill>
                <a:latin typeface="Tahoma"/>
              </a:rPr>
              <a:t> consent of data subject required</a:t>
            </a:r>
            <a:endParaRPr b="0" i="1" lang="en-US" sz="2800" spc="-1" strike="noStrike">
              <a:solidFill>
                <a:srgbClr val="f86c2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86c28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86c28"/>
                </a:solidFill>
                <a:latin typeface="Tahoma"/>
              </a:rPr>
              <a:t> </a:t>
            </a:r>
            <a:r>
              <a:rPr b="1" lang="en-IE" sz="2800" spc="-1" strike="noStrike">
                <a:solidFill>
                  <a:srgbClr val="f86c28"/>
                </a:solidFill>
                <a:latin typeface="Tahoma"/>
              </a:rPr>
              <a:t>Prohibited</a:t>
            </a:r>
            <a:r>
              <a:rPr b="0" i="1" lang="en-IE" sz="2800" spc="-1" strike="noStrike">
                <a:solidFill>
                  <a:srgbClr val="f86c28"/>
                </a:solidFill>
                <a:latin typeface="Tahoma"/>
              </a:rPr>
              <a:t> in relation to insurance policies, pensions, and mortgages</a:t>
            </a:r>
            <a:endParaRPr b="0" i="1" lang="en-US" sz="2800" spc="-1" strike="noStrike">
              <a:solidFill>
                <a:srgbClr val="f86c2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86c28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800" spc="-1" strike="noStrike">
                <a:solidFill>
                  <a:srgbClr val="f86c28"/>
                </a:solidFill>
                <a:latin typeface="Tahoma"/>
              </a:rPr>
              <a:t>Subject to </a:t>
            </a:r>
            <a:r>
              <a:rPr b="1" lang="en-IE" sz="2800" spc="-1" strike="noStrike">
                <a:solidFill>
                  <a:srgbClr val="f86c28"/>
                </a:solidFill>
                <a:latin typeface="Tahoma"/>
              </a:rPr>
              <a:t>DPC prior approval</a:t>
            </a:r>
            <a:r>
              <a:rPr b="0" i="1" lang="en-IE" sz="2800" spc="-1" strike="noStrike">
                <a:solidFill>
                  <a:srgbClr val="f86c28"/>
                </a:solidFill>
                <a:latin typeface="Tahoma"/>
              </a:rPr>
              <a:t> in relation to employment</a:t>
            </a:r>
            <a:endParaRPr b="0" i="1" lang="en-US" sz="2800" spc="-1" strike="noStrike">
              <a:solidFill>
                <a:srgbClr val="f86c2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80c0"/>
                </a:solidFill>
                <a:latin typeface="Verdana"/>
              </a:rPr>
              <a:t>Employers’ responsibilities</a:t>
            </a:r>
            <a:endParaRPr b="0" lang="en-US" sz="4400" spc="-1" strike="noStrike">
              <a:solidFill>
                <a:srgbClr val="0080c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8001000" cy="31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b37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Tahoma"/>
              </a:rPr>
              <a:t>Employer obliged to provide safe place of work. Safety, Health and Welfare at Work Act 20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b37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Tahoma"/>
              </a:rPr>
              <a:t>Monitoring (email, cctv?) –in context of risk- health &amp; safety abuses , instances of bullying. Must be necessary, proportionate and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80c0"/>
                </a:solidFill>
                <a:latin typeface="Verdana"/>
              </a:rPr>
              <a:t>Workplace privacy</a:t>
            </a:r>
            <a:endParaRPr b="0" lang="en-US" sz="4400" spc="-1" strike="noStrike">
              <a:solidFill>
                <a:srgbClr val="0080c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3924360" cy="31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86c2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Tahoma"/>
              </a:rPr>
              <a:t>Acceptance that employees have a right to privacy – even in the workpla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86c2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ff0000"/>
                </a:solidFill>
                <a:latin typeface="Tahoma"/>
              </a:rPr>
              <a:t>This right must be balanced with employer’s legitimate interest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86c2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Tahoma"/>
              </a:rPr>
              <a:t>Any limitation of the employees right to privacy should be </a:t>
            </a:r>
            <a:r>
              <a:rPr b="1" lang="en-NZ" sz="1600" spc="-1" strike="noStrike">
                <a:solidFill>
                  <a:srgbClr val="0080c0"/>
                </a:solidFill>
                <a:latin typeface="Tahoma"/>
              </a:rPr>
              <a:t>proportionate</a:t>
            </a:r>
            <a:r>
              <a:rPr b="1" lang="en-NZ" sz="1600" spc="-1" strike="noStrike">
                <a:solidFill>
                  <a:srgbClr val="000000"/>
                </a:solidFill>
                <a:latin typeface="Tahoma"/>
              </a:rPr>
              <a:t> to the likely damage to the employer’s legitimate interest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33480" y="3124080"/>
            <a:ext cx="3924360" cy="31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f86c2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ff0000"/>
                </a:solidFill>
                <a:latin typeface="Tahoma"/>
              </a:rPr>
              <a:t>Before any monitoring takes place, employees should be notified of this and its purpos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f86c2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Tahoma"/>
              </a:rPr>
              <a:t>Ideally, a policy should be availabl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f86c2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Tahoma"/>
              </a:rPr>
              <a:t>Opinions given in confidence or in  the expectation of confidence  may not be granted a subject access request </a:t>
            </a:r>
            <a:r>
              <a:rPr b="1" lang="en-NZ" sz="1600" spc="-1" strike="noStrike">
                <a:solidFill>
                  <a:srgbClr val="ff0000"/>
                </a:solidFill>
                <a:latin typeface="Tahoma"/>
              </a:rPr>
              <a:t>but this demands a high threshold of proof from the DPC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80c0"/>
                </a:solidFill>
                <a:latin typeface="Verdana"/>
              </a:rPr>
              <a:t>Health-Workplace issues</a:t>
            </a:r>
            <a:endParaRPr b="0" lang="en-US" sz="4400" spc="-1" strike="noStrike">
              <a:solidFill>
                <a:srgbClr val="0080c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8001000" cy="31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86c2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Health is sensitive data in data protection la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86c2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Health and safety, prevent discrimination, satisfy legal obligations, employment requirements or explicit consent giv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86c2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Consent to be freely giv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80c0"/>
                </a:solidFill>
                <a:latin typeface="Verdana"/>
              </a:rPr>
              <a:t>Access to health information</a:t>
            </a:r>
            <a:endParaRPr b="0" lang="en-US" sz="4000" spc="-1" strike="noStrike">
              <a:solidFill>
                <a:srgbClr val="0080c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8001000" cy="31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86c2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Tahoma"/>
              </a:rPr>
              <a:t>Direct access by the data subject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86c2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1" lang="en-IE" sz="2400" spc="-1" strike="noStrike">
                <a:solidFill>
                  <a:srgbClr val="000000"/>
                </a:solidFill>
                <a:latin typeface="Tahoma"/>
              </a:rPr>
              <a:t>subject to consultation with his/her GP (or some other health professional in employment context) …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86c2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1" lang="en-IE" sz="2400" spc="-1" strike="noStrike">
                <a:solidFill>
                  <a:srgbClr val="000000"/>
                </a:solidFill>
                <a:latin typeface="Tahoma"/>
              </a:rPr>
              <a:t>to ensure that access would not be “likely to cause serious harm to the physical or mental health of the data subjec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86c2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Tahoma"/>
              </a:rPr>
              <a:t>S.I. No. 82/198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80c0"/>
                </a:solidFill>
                <a:latin typeface="Verdana"/>
              </a:rPr>
              <a:t>Purpose for collection</a:t>
            </a:r>
            <a:endParaRPr b="0" lang="en-US" sz="4400" spc="-1" strike="noStrike">
              <a:solidFill>
                <a:srgbClr val="0080c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8001000" cy="31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86c2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Review Current practi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86c2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Data to be adequate, relevant and not excess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86c2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Impact assessment on why you need this da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80c0"/>
                </a:solidFill>
                <a:latin typeface="Verdana"/>
              </a:rPr>
              <a:t>Security</a:t>
            </a:r>
            <a:endParaRPr b="0" lang="en-US" sz="4400" spc="-1" strike="noStrike">
              <a:solidFill>
                <a:srgbClr val="0080c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8001000" cy="31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86c2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Need to know and necessary to establish fitness to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86c2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Anonymised information to safety representatives in gener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86c2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Secure  from other personnel recor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80c0"/>
                </a:solidFill>
                <a:latin typeface="Verdana"/>
              </a:rPr>
              <a:t>Necessary/Proportionate</a:t>
            </a:r>
            <a:endParaRPr b="0" lang="en-US" sz="4400" spc="-1" strike="noStrike">
              <a:solidFill>
                <a:srgbClr val="0080c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8001000" cy="31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86c2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Only collect what is necess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86c2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Fitness to work rather than general health detai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86c2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Restricted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86c2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Proportionate to ris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80c0"/>
                </a:solidFill>
                <a:latin typeface="Verdana"/>
              </a:rPr>
              <a:t>Good practice in general</a:t>
            </a:r>
            <a:endParaRPr b="0" lang="en-US" sz="4400" spc="-1" strike="noStrike">
              <a:solidFill>
                <a:srgbClr val="0080c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8001000" cy="31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86c2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Clear policy and workers are aware of s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86c2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Collect information when appropriate-appointment, health and safety program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86c2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Covert obtaining contrary to DP Acts gener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3T12:46:02Z</dcterms:created>
  <dc:creator>rd</dc:creator>
  <dc:description/>
  <dc:language>en-US</dc:language>
  <cp:lastModifiedBy>Philip G. Ormond</cp:lastModifiedBy>
  <dcterms:modified xsi:type="dcterms:W3CDTF">2009-05-15T14:40:00Z</dcterms:modified>
  <cp:revision>198</cp:revision>
  <dc:subject/>
  <dc:title>Data Protection and the Health Sector</dc:title>
</cp:coreProperties>
</file>