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gif" ContentType="image/gif"/>
  <Override PartName="/ppt/media/image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</p:sldIdLst>
  <p:sldSz cx="9144000" cy="6858000"/>
  <p:notesSz cx="6670675" cy="98488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AE2EB-CD65-42CE-88C7-484A5BA42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866FB-58D9-40DA-9151-AC4DF9948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CE132-61FB-47C1-B657-C0109B9E8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DD2DD-6B1B-4D96-905A-D3E4D20F6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0F7BE-826C-4DC3-99AD-C2E2E3C20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DC031-5818-4AA7-89F2-CC23E214E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43748-7F4B-4261-814C-625855691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15640-7110-44E8-AE29-00A441F23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8F67E-8896-46DD-A801-B845024BC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FC127-6FC0-45D6-B150-BE1DDE471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E41DB-083F-438D-A097-18AD317F6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38309-35BE-4A59-A53A-9A2682C2D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0D0A1-C273-49A1-AE98-3032E3F74DB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hyperlink" Target="http://www.dataprotection.ie/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42560" y="609480"/>
            <a:ext cx="77202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Data Protection: Your Duties as a </a:t>
            </a:r>
            <a:r>
              <a:rPr b="0" i="1" lang="en-IE" sz="4400" spc="-1" strike="noStrike">
                <a:solidFill>
                  <a:srgbClr val="000000"/>
                </a:solidFill>
                <a:latin typeface="Arial"/>
              </a:rPr>
              <a:t>Data Controller</a:t>
            </a: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5280" y="1700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Obtain &amp; Process Fairly 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94920" y="2636640"/>
            <a:ext cx="80010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</a:rPr>
              <a:t>Data controller must give full information abo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99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500" spc="-1" strike="noStrike">
                <a:solidFill>
                  <a:srgbClr val="000000"/>
                </a:solidFill>
                <a:latin typeface="Arial"/>
              </a:rPr>
              <a:t>identit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99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500" spc="-1" strike="noStrike">
                <a:solidFill>
                  <a:srgbClr val="000000"/>
                </a:solidFill>
                <a:latin typeface="Arial"/>
              </a:rPr>
              <a:t>purpos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99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500" spc="-1" strike="noStrike">
                <a:solidFill>
                  <a:srgbClr val="000000"/>
                </a:solidFill>
                <a:latin typeface="Arial"/>
              </a:rPr>
              <a:t>disclose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99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500" spc="-1" strike="noStrike">
                <a:solidFill>
                  <a:srgbClr val="000000"/>
                </a:solidFill>
                <a:latin typeface="Arial"/>
              </a:rPr>
              <a:t>any other data necessary for “fairness”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</a:rPr>
              <a:t>Third party data controll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99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500" spc="-1" strike="noStrike">
                <a:solidFill>
                  <a:srgbClr val="000000"/>
                </a:solidFill>
                <a:latin typeface="Arial"/>
              </a:rPr>
              <a:t>must contact data subject to provide these detail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99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500" spc="-1" strike="noStrike">
                <a:solidFill>
                  <a:srgbClr val="000000"/>
                </a:solidFill>
                <a:latin typeface="Arial"/>
              </a:rPr>
              <a:t>must give name of original data controll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72200" y="68580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Verdana"/>
              </a:rPr>
              <a:t>Rule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11280" y="170028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Obtain &amp; Process Fairly II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9640" y="2636640"/>
            <a:ext cx="77724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0000"/>
                </a:solidFill>
                <a:latin typeface="Arial"/>
              </a:rPr>
              <a:t>One of these conditions require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0000"/>
                </a:solidFill>
                <a:latin typeface="Arial"/>
              </a:rPr>
              <a:t>Cons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0000"/>
                </a:solidFill>
                <a:latin typeface="Arial"/>
              </a:rPr>
              <a:t>Legal oblig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0000"/>
                </a:solidFill>
                <a:latin typeface="Arial"/>
              </a:rPr>
              <a:t>Contract with individ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0000"/>
                </a:solidFill>
                <a:latin typeface="Arial"/>
              </a:rPr>
              <a:t>Necessary to protect vital inter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0000"/>
                </a:solidFill>
                <a:latin typeface="Arial"/>
              </a:rPr>
              <a:t>Necessary for a public function (Justic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0000"/>
                </a:solidFill>
                <a:latin typeface="Arial"/>
              </a:rPr>
              <a:t>necessary for ‘legitimate interests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477120" y="838080"/>
            <a:ext cx="213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Verdana"/>
              </a:rPr>
              <a:t>Rule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24000" y="1628280"/>
            <a:ext cx="807696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000000"/>
                </a:solidFill>
                <a:latin typeface="Arial"/>
              </a:rPr>
              <a:t>Processing Sensitive D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23640" y="2349360"/>
            <a:ext cx="8001000" cy="45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</a:rPr>
              <a:t>One of these additional conditions is requi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</a:rPr>
              <a:t>Explicit cons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</a:rPr>
              <a:t>Necessary under employment la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</a:rPr>
              <a:t>To prevent injury or protect vital intere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</a:rPr>
              <a:t>Process the data of members/clients of non-profit org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</a:rPr>
              <a:t>Legal ad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</a:rPr>
              <a:t>For Medical Purpo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</a:rPr>
              <a:t>Statutory fun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400800" y="9144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Verdana"/>
              </a:rPr>
              <a:t>Rule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4360" y="1916280"/>
            <a:ext cx="77724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000000"/>
                </a:solidFill>
                <a:latin typeface="Arial"/>
              </a:rPr>
              <a:t>Fair obtaining - practic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10920" y="2636640"/>
            <a:ext cx="80010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0000"/>
                </a:solidFill>
                <a:latin typeface="Arial"/>
              </a:rPr>
              <a:t>Do people know you process their dat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</a:rPr>
              <a:t>did you get data directly from the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0000"/>
                </a:solidFill>
                <a:latin typeface="Arial"/>
              </a:rPr>
              <a:t>Do they know all data types you proc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0000"/>
                </a:solidFill>
                <a:latin typeface="Arial"/>
              </a:rPr>
              <a:t>Do they know why you process their dat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</a:rPr>
              <a:t>administering training/exams; providing newsletter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ecified Purpo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0000"/>
                </a:solidFill>
                <a:latin typeface="Arial"/>
              </a:rPr>
              <a:t>Part of obligations when obtaining to specify purp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0000"/>
                </a:solidFill>
                <a:latin typeface="Arial"/>
              </a:rPr>
              <a:t>Cannot expand purpose without reverting to individ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588000" y="0"/>
            <a:ext cx="208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</a:rPr>
              <a:t>Rule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Disclose only if compatible</a:t>
            </a:r>
            <a:r>
              <a:rPr b="0" lang="en-IE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7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General rule – no disclosure for different purp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Exceptions made, to balance other interests of socie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49760" y="1600200"/>
            <a:ext cx="4037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Section 8 exce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Investigation of cr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Collection of ta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Security of the St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Protect life &amp; lim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Law or court or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Legal advice and legal proceed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No general “public interest” 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084720" y="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Verdana"/>
              </a:rPr>
              <a:t>Rule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352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000000"/>
                </a:solidFill>
                <a:latin typeface="Arial"/>
              </a:rPr>
              <a:t>Disclosure Polic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69440" y="2960640"/>
            <a:ext cx="7999560" cy="26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The Data Controller should have a policy in place to determine how requests for data from third parties are handl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This policy should be consulted by appropriate staff memb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4360" y="184464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00000"/>
                </a:solidFill>
                <a:latin typeface="Arial"/>
              </a:rPr>
              <a:t>Disclosure - practic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68000" y="2924280"/>
            <a:ext cx="8001000" cy="32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Use of bcc rather than cc fields on e-mails might be prefer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Informing an employer about an employee’s training results might be a disclosure where the employee had personally arranged and paid for cour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11280" y="155700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00000"/>
                </a:solidFill>
                <a:latin typeface="Arial"/>
              </a:rPr>
              <a:t>Keep Safe and Sec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11280" y="2349360"/>
            <a:ext cx="7772400" cy="45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000000"/>
                </a:solidFill>
                <a:latin typeface="Arial"/>
              </a:rPr>
              <a:t>Appropriate security mea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"/>
              </a:rPr>
              <a:t>Appropriate to the harm that might result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"/>
              </a:rPr>
              <a:t>Appropriate to the nature of th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000000"/>
                </a:solidFill>
                <a:latin typeface="Arial"/>
              </a:rPr>
              <a:t>May have regard to cost of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000000"/>
                </a:solidFill>
                <a:latin typeface="Arial"/>
              </a:rPr>
              <a:t>May have regard to the current state of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000000"/>
                </a:solidFill>
                <a:latin typeface="Arial"/>
              </a:rPr>
              <a:t>Staff must know and comply with mea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000000"/>
                </a:solidFill>
                <a:latin typeface="Arial"/>
              </a:rPr>
              <a:t>Internal review of security measures-part of Internal Audit  function ?</a:t>
            </a:r>
            <a:r>
              <a:rPr b="0" lang="en-GB" sz="2000" spc="-1" strike="noStrike">
                <a:solidFill>
                  <a:srgbClr val="f86c28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715000" y="91440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Verdana"/>
              </a:rPr>
              <a:t>Rule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177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00000"/>
                </a:solidFill>
                <a:latin typeface="Arial"/>
              </a:rPr>
              <a:t>Security - practic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11280" y="2565000"/>
            <a:ext cx="7772400" cy="404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0000"/>
                </a:solidFill>
                <a:latin typeface="Arial"/>
              </a:rPr>
              <a:t>Care must also be taken regarding paper records, especially sensitive or financial dat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0000"/>
                </a:solidFill>
                <a:latin typeface="Arial"/>
              </a:rPr>
              <a:t>Ideally data not left in a way that non-relevant staff can access fi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0000"/>
                </a:solidFill>
                <a:latin typeface="Arial"/>
              </a:rPr>
              <a:t>Attention paid to how visitors move around an off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The Data Protection R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7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Fair obtaining &amp; proces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86c2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Cons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Specified purp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No disclos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86c2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unless “compatibl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Safe and sec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284360" y="1700280"/>
            <a:ext cx="4419720" cy="31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Accurate, up-to-d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Relevant, not excess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Retention peri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Right of acces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212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99cc00"/>
                </a:solidFill>
                <a:latin typeface="Arial"/>
              </a:rPr>
              <a:t>Data Protection Training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9440" y="3196800"/>
            <a:ext cx="7999560" cy="26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99cc00"/>
                </a:solidFill>
                <a:latin typeface="Arial"/>
              </a:rPr>
              <a:t>Obligation</a:t>
            </a: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 on employer to ensure staff are aware of data protection oblig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Clr>
                <a:srgbClr val="99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Polic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Clr>
                <a:srgbClr val="99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A Code of Practice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Clr>
                <a:srgbClr val="99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Person in char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5562720" y="304920"/>
            <a:ext cx="2857320" cy="144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0000"/>
                </a:solidFill>
                <a:latin typeface="Arial"/>
              </a:rPr>
              <a:t>Accurate, Complete and Up-to-D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9280" y="3429000"/>
            <a:ext cx="80010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0000"/>
                </a:solidFill>
                <a:latin typeface="Arial"/>
              </a:rPr>
              <a:t>Longer personal  data is held, more likely it will be inaccurate and out-of-d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0000"/>
                </a:solidFill>
                <a:latin typeface="Arial"/>
              </a:rPr>
              <a:t>Right to have errors rectified (see later)</a:t>
            </a:r>
            <a:r>
              <a:rPr b="1" lang="en-IE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95880" y="838080"/>
            <a:ext cx="266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Times New Roman"/>
              </a:rPr>
              <a:t>Rule 5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0000"/>
                </a:solidFill>
                <a:latin typeface="Arial"/>
              </a:rPr>
              <a:t>Relevant and not Excessi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9440" y="3038040"/>
            <a:ext cx="7999560" cy="30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0000"/>
                </a:solidFill>
                <a:latin typeface="Arial"/>
              </a:rPr>
              <a:t>No right to ask for, or hold, information not relevant to service etc being provid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0000"/>
                </a:solidFill>
                <a:latin typeface="Arial"/>
              </a:rPr>
              <a:t>Challenge: who do  you need all this personal data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095880" y="838080"/>
            <a:ext cx="266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Times New Roman"/>
              </a:rPr>
              <a:t>Rule 6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16000" y="169992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00"/>
                </a:solidFill>
                <a:latin typeface="Arial"/>
              </a:rPr>
              <a:t>Retain no longer than necessa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2420640"/>
            <a:ext cx="784692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Legal obligations to hold dat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Custom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99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Do you need to hold </a:t>
            </a:r>
            <a:r>
              <a:rPr b="1" lang="en-NZ" sz="2400" spc="-1" strike="noStrike">
                <a:solidFill>
                  <a:srgbClr val="99cc00"/>
                </a:solidFill>
                <a:latin typeface="Arial"/>
              </a:rPr>
              <a:t>all </a:t>
            </a: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that dat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99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Payment records might have one retention peri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99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Exam results might have longer retention peri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99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Credit card details retained with cons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Must have policy thought throu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99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Defend retention as necessary for purpo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300720" y="907920"/>
            <a:ext cx="215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Times New Roman"/>
              </a:rPr>
              <a:t>Rule 7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9640" y="184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000000"/>
                </a:solidFill>
                <a:latin typeface="Arial"/>
              </a:rPr>
              <a:t>Right of Access: Empower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2793960"/>
            <a:ext cx="8229600" cy="333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IE" sz="3600" spc="-1" strike="noStrike">
                <a:solidFill>
                  <a:srgbClr val="000000"/>
                </a:solidFill>
                <a:latin typeface="Arial"/>
              </a:rPr>
              <a:t>The Right of Access empowers individuals by enabling them to supervise the processing of their personal dat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280200" y="797040"/>
            <a:ext cx="210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ule 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000000"/>
                </a:solidFill>
                <a:latin typeface="Arial"/>
              </a:rPr>
              <a:t>Scope of Access Requ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68000" y="3212640"/>
            <a:ext cx="8001000" cy="36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Applies to all manual and electronic records in existence at the time of receipt of an access request – regardless of when the record was crea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Copy of information must be provided in permanent form </a:t>
            </a:r>
            <a:r>
              <a:rPr b="1" i="1" lang="en-NZ" sz="2800" spc="-1" strike="noStrike">
                <a:solidFill>
                  <a:srgbClr val="000000"/>
                </a:solidFill>
                <a:latin typeface="Arial"/>
              </a:rPr>
              <a:t>unless</a:t>
            </a: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 data subject agrees otherwise </a:t>
            </a:r>
            <a:r>
              <a:rPr b="1" i="1" lang="en-NZ" sz="28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 this is impossible </a:t>
            </a:r>
            <a:r>
              <a:rPr b="1" i="1" lang="en-NZ" sz="28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 involves disproportionate eff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6553080" y="457200"/>
            <a:ext cx="1600200" cy="137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000000"/>
                </a:solidFill>
                <a:latin typeface="Arial"/>
              </a:rPr>
              <a:t>What must be disclosed in an access reque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Personal data he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purposes for processing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persons to whom data are disclo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the source of the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subject to confidentiality safegu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logic involved in automated deci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000000"/>
                </a:solidFill>
                <a:latin typeface="Arial"/>
              </a:rPr>
              <a:t>Access Request - Proced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95280" y="3357360"/>
            <a:ext cx="711360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Shall be in wri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Data Subject shall provide sufficient information to identify onesel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Data Controller shall comply within 40 d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May charge a fee up to €6.3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6588000" y="333360"/>
            <a:ext cx="1384560" cy="1384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000000"/>
                </a:solidFill>
                <a:latin typeface="Arial"/>
              </a:rPr>
              <a:t>Opin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Exempt from an access request only if the expression of an opinion was given in confidence or under the understanding it would be treated as confidenti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References are not exempt in gene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High threshold requi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Work performance reports on colleagues are acce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Interview notes-acce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00"/>
                </a:solidFill>
                <a:latin typeface="Arial"/>
              </a:rPr>
              <a:t>Exempt from Access Reques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68000" y="3284640"/>
            <a:ext cx="800100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Data relating to a claim of li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Data covered by legal privile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Data relating to a criminal investig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Certain research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Back-up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99cc00"/>
                </a:solidFill>
                <a:latin typeface="Arial"/>
              </a:rPr>
              <a:t>Data Protection Acts, 1988 &amp; 20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457200" y="3138480"/>
          <a:ext cx="8229240" cy="2717280"/>
        </p:xfrm>
        <a:graphic>
          <a:graphicData uri="http://schemas.openxmlformats.org/drawingml/2006/table">
            <a:tbl>
              <a:tblPr/>
              <a:tblGrid>
                <a:gridCol w="4114800"/>
                <a:gridCol w="4114440"/>
              </a:tblGrid>
              <a:tr h="2717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28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RIGH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28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for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28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individual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SPONSIBILITI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or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sers of personal dat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</a:tbl>
          </a:graphicData>
        </a:graphic>
      </p:graphicFrame>
      <p:sp>
        <p:nvSpPr>
          <p:cNvPr id="47" name=""/>
          <p:cNvSpPr/>
          <p:nvPr/>
        </p:nvSpPr>
        <p:spPr>
          <a:xfrm>
            <a:off x="2911680" y="2666880"/>
            <a:ext cx="320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Verdana"/>
              </a:rPr>
              <a:t>The Acts creat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"/>
          <p:cNvSpPr/>
          <p:nvPr/>
        </p:nvSpPr>
        <p:spPr>
          <a:xfrm>
            <a:off x="5943600" y="304920"/>
            <a:ext cx="32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Times New Roman"/>
              </a:rPr>
              <a:t>Backgrou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Access: Exemptions (S.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Right of Access does not apply </a:t>
            </a:r>
            <a:r>
              <a:rPr b="1" i="1" lang="en-IE" sz="2800" spc="-1" strike="noStrike">
                <a:solidFill>
                  <a:srgbClr val="000000"/>
                </a:solidFill>
                <a:latin typeface="Arial"/>
              </a:rPr>
              <a:t>if likely to prejudice</a:t>
            </a: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Preventing, detecting or investigating offences, apprehending or prosecuting offen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Security in a place of detention</a:t>
            </a:r>
            <a:r>
              <a:rPr b="0" i="1" lang="en-I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Other (international relations, privileged information et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Restricted Right of Ac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400" spc="-1" strike="noStrike">
                <a:solidFill>
                  <a:srgbClr val="000000"/>
                </a:solidFill>
                <a:latin typeface="Arial"/>
              </a:rPr>
              <a:t>Right </a:t>
            </a:r>
            <a:r>
              <a:rPr b="0" i="1" lang="en-IE" sz="2400" spc="-1" strike="noStrike">
                <a:solidFill>
                  <a:srgbClr val="ff0000"/>
                </a:solidFill>
                <a:latin typeface="Arial"/>
              </a:rPr>
              <a:t>does not</a:t>
            </a:r>
            <a:r>
              <a:rPr b="0" i="1" lang="en-IE" sz="2400" spc="-1" strike="noStrike">
                <a:solidFill>
                  <a:srgbClr val="000000"/>
                </a:solidFill>
                <a:latin typeface="Arial"/>
              </a:rPr>
              <a:t> apply where it would impair –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the investigation of a crime, or assessment / collection of ta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86c28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86c28"/>
                </a:solidFill>
                <a:latin typeface="Arial"/>
              </a:rPr>
              <a:t>Subject to case-by-case “prejudice” 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International relations of the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Legal professional privile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Medical and social work data – special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Statistical or re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Back up dat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Other Access Exemp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800" spc="-1" strike="noStrike">
                <a:solidFill>
                  <a:srgbClr val="000000"/>
                </a:solidFill>
                <a:latin typeface="Arial"/>
              </a:rPr>
              <a:t>Financial, Anti-fraud investig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400" spc="-1" strike="noStrike">
                <a:solidFill>
                  <a:srgbClr val="000000"/>
                </a:solidFill>
                <a:latin typeface="Arial"/>
              </a:rPr>
              <a:t>National Consumer Ag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400" spc="-1" strike="noStrike">
                <a:solidFill>
                  <a:srgbClr val="000000"/>
                </a:solidFill>
                <a:latin typeface="Arial"/>
              </a:rPr>
              <a:t>Examiners, Receivers, Liquidators, Court inspecto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400" spc="-1" strike="noStrike">
                <a:solidFill>
                  <a:srgbClr val="000000"/>
                </a:solidFill>
                <a:latin typeface="Arial"/>
              </a:rPr>
              <a:t>Recognised accountants, audi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400" spc="-1" strike="noStrike">
                <a:solidFill>
                  <a:srgbClr val="000000"/>
                </a:solidFill>
                <a:latin typeface="Arial"/>
              </a:rPr>
              <a:t>Company law insp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400" spc="-1" strike="noStrike">
                <a:solidFill>
                  <a:srgbClr val="000000"/>
                </a:solidFill>
                <a:latin typeface="Arial"/>
              </a:rPr>
              <a:t>Central Bank/Financial Reg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09480" y="16765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Right to correct/erase/blo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09480" y="26668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Section 6 of the 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Data Subject makes a written requ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Personal data must b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Corrected, if inaccurate; 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Deleted, if should not be hel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Data Controller has 40 days to respo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No fee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Correction or dele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Personal data must b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800" spc="-1" strike="noStrike">
                <a:solidFill>
                  <a:srgbClr val="000000"/>
                </a:solidFill>
                <a:latin typeface="Arial"/>
              </a:rPr>
              <a:t>Corrected, if inaccurate; 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800" spc="-1" strike="noStrike">
                <a:solidFill>
                  <a:srgbClr val="000000"/>
                </a:solidFill>
                <a:latin typeface="Arial"/>
              </a:rPr>
              <a:t>Deleted, if should not be hel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800" spc="-1" strike="noStrike">
                <a:solidFill>
                  <a:srgbClr val="000000"/>
                </a:solidFill>
                <a:latin typeface="Arial"/>
              </a:rPr>
              <a:t>Note difference of opin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800" spc="-1" strike="noStrike">
                <a:solidFill>
                  <a:srgbClr val="000000"/>
                </a:solidFill>
                <a:latin typeface="Arial"/>
              </a:rPr>
              <a:t>Inform those who got wrong or inaccurate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00000"/>
                </a:solidFill>
                <a:latin typeface="Arial"/>
              </a:rPr>
              <a:t>Right of eras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25480" y="2924280"/>
            <a:ext cx="777384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0000"/>
                </a:solidFill>
                <a:latin typeface="Arial"/>
              </a:rPr>
              <a:t>Doesn’t apply if you have a lawful purpose in retaining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0000"/>
                </a:solidFill>
                <a:latin typeface="Arial"/>
              </a:rPr>
              <a:t>Such as auditing or accreditation purpo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Automated deci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Key decisions cannot be made solely based on automated processing of personal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creditworth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work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reli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Excep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consent;  legal necessity;  contractual reas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000000"/>
                </a:solidFill>
                <a:latin typeface="Arial"/>
              </a:rPr>
              <a:t>Right to ob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763560" y="2439720"/>
            <a:ext cx="7770960" cy="343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Section 6A(1) allows the data subject to object to the processing of dat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99cc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Is “</a:t>
            </a:r>
            <a:r>
              <a:rPr b="1" i="1" lang="en-NZ" sz="2800" spc="-1" strike="noStrike">
                <a:solidFill>
                  <a:srgbClr val="000000"/>
                </a:solidFill>
                <a:latin typeface="Arial"/>
              </a:rPr>
              <a:t>likely to cause substantial damage or distress to him or her, or to another person, 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99cc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800" spc="-1" strike="noStrike">
                <a:solidFill>
                  <a:srgbClr val="000000"/>
                </a:solidFill>
                <a:latin typeface="Arial"/>
              </a:rPr>
              <a:t>The damage or distress is or would be unwarranted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000000"/>
                </a:solidFill>
                <a:latin typeface="Arial"/>
              </a:rPr>
              <a:t>DP/FOI Access to Personal Informatio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DP and FOI Acts reinforce one another in relation to personal access in the public secto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Defending access to  personal information as 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</a:rPr>
              <a:t>human (DP)</a:t>
            </a: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</a:rPr>
              <a:t>citizen (FOI)</a:t>
            </a: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 r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IE" sz="2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 Party Access restricted under both A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FOI access to personal information should sometimes prevail in the public inter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Right to opt out of direct marke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520" y="3352680"/>
            <a:ext cx="8001000" cy="31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Section 2(7) of the Ac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Data subject may opt out of direct marketing database  (e.g. a mailing li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Data controller must delete the data subject’s details (or stop using them for direct marketing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Data controller must reply within 40 d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Rights and Oblig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Rights of “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</a:rPr>
              <a:t>data subject</a:t>
            </a: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” (= </a:t>
            </a:r>
            <a:r>
              <a:rPr b="0" i="1" lang="en-IE" sz="2800" spc="-1" strike="noStrike">
                <a:solidFill>
                  <a:srgbClr val="000000"/>
                </a:solidFill>
                <a:latin typeface="Arial"/>
              </a:rPr>
              <a:t>identifiable</a:t>
            </a: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IE" sz="2800" spc="-1" strike="noStrike">
                <a:solidFill>
                  <a:srgbClr val="000000"/>
                </a:solidFill>
                <a:latin typeface="Arial"/>
              </a:rPr>
              <a:t>living</a:t>
            </a: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 individual) to control the use of their “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</a:rPr>
              <a:t>personal data</a:t>
            </a: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Obligations on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</a:rPr>
              <a:t>“data controllers” </a:t>
            </a: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(“a person who controls the contents and use of personal data”) and “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</a:rPr>
              <a:t>data processors” (“</a:t>
            </a: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A person who processes personal data on behalf of a data controller”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4360" y="170028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000000"/>
                </a:solidFill>
                <a:latin typeface="Arial"/>
              </a:rPr>
              <a:t>What is Direct Market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2349360"/>
            <a:ext cx="777240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1" i="1" lang="en-US" sz="2300" spc="-1" strike="noStrike">
                <a:solidFill>
                  <a:srgbClr val="000000"/>
                </a:solidFill>
                <a:latin typeface="Arial"/>
              </a:rPr>
              <a:t>Direct marketing is a series of marketing strategies, using various delivery techniques designed to provide the receiver (consumers and companies) with information at a distance... (using) different means of approach e.g. broadcasting, printed press, mail, telephone, on-line-services).    It is used to sell products, to deliver information, public announcements, and for sales after-service, customer care services, charity and political appeals". (FEDMA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Electronic Communic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6840" y="2636640"/>
            <a:ext cx="8001000" cy="36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Right to “opt-out” of </a:t>
            </a:r>
            <a:r>
              <a:rPr b="1" i="1" lang="en-IE" sz="3200" spc="-1" strike="noStrike">
                <a:solidFill>
                  <a:srgbClr val="000000"/>
                </a:solidFill>
                <a:latin typeface="Arial"/>
              </a:rPr>
              <a:t>all</a:t>
            </a: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  unsolicited direct marketing ca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Ex-Directory customers (and most mobiles) automatically ‘opted-out’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If not ex-directory, Contact your phone line provider and ask to be put on the National Directory Database ‘opt-out’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SMS  and e-mail unsolicited marketing bann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Using Sensitive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9933ff"/>
                </a:solidFill>
                <a:latin typeface="Arial"/>
              </a:rPr>
              <a:t>EXTRA</a:t>
            </a: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 conditions:  S.2B     (one only is needed)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explicit cons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necessary under employment la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non-profit body (political, philosophical, religious, trade-union) – its members / cli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necessary for medical purposes          </a:t>
            </a:r>
            <a:r>
              <a:rPr b="0" i="1" lang="en-IE" sz="2800" spc="-1" strike="noStrike">
                <a:solidFill>
                  <a:srgbClr val="000000"/>
                </a:solidFill>
                <a:latin typeface="Arial"/>
              </a:rPr>
              <a:t>(cont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Using Sensitive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9933ff"/>
                </a:solidFill>
                <a:latin typeface="Arial"/>
              </a:rPr>
              <a:t>EXTRA</a:t>
            </a: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 conditions:       (one only is needed)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necessary to protect vital intere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necessary for legal advice / legal clai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for electoral purpo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for substantial public inter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as prescribed by Min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Data Proces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Agents and sub-contrac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There must be a written contract in pl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Data Controller must take reasonable steps to ensure compliance with security meas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539640" y="3141720"/>
            <a:ext cx="1728720" cy="105984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9999"/>
                </a:solidFill>
                <a:latin typeface="Verdana"/>
              </a:rPr>
              <a:t>Begin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Verdana"/>
              </a:rPr>
              <a:t>Getting the Da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"/>
          <p:cNvSpPr/>
          <p:nvPr/>
        </p:nvSpPr>
        <p:spPr>
          <a:xfrm>
            <a:off x="3492360" y="3141720"/>
            <a:ext cx="2016360" cy="105984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9999"/>
                </a:solidFill>
                <a:latin typeface="Verdana"/>
              </a:rPr>
              <a:t>Middl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Verdana"/>
              </a:rPr>
              <a:t>While you have the da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"/>
          <p:cNvSpPr/>
          <p:nvPr/>
        </p:nvSpPr>
        <p:spPr>
          <a:xfrm>
            <a:off x="6948360" y="3141720"/>
            <a:ext cx="1944720" cy="105984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9999"/>
                </a:solidFill>
                <a:latin typeface="Verdana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Verdana"/>
              </a:rPr>
              <a:t>Disposing of da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"/>
          <p:cNvSpPr/>
          <p:nvPr/>
        </p:nvSpPr>
        <p:spPr>
          <a:xfrm>
            <a:off x="971640" y="1700280"/>
            <a:ext cx="748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Verdana"/>
              </a:rPr>
              <a:t>Responsibilities on Data Controllers at the different s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539640" y="3141720"/>
            <a:ext cx="1728720" cy="105984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9999"/>
                </a:solidFill>
                <a:latin typeface="Verdana"/>
              </a:rPr>
              <a:t>Begin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Verdana"/>
              </a:rPr>
              <a:t>Getting the Da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"/>
          <p:cNvSpPr/>
          <p:nvPr/>
        </p:nvSpPr>
        <p:spPr>
          <a:xfrm>
            <a:off x="3492360" y="3141720"/>
            <a:ext cx="2016360" cy="105984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9999"/>
                </a:solidFill>
                <a:latin typeface="Verdana"/>
              </a:rPr>
              <a:t>Middl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Verdana"/>
              </a:rPr>
              <a:t>While you have the da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"/>
          <p:cNvSpPr/>
          <p:nvPr/>
        </p:nvSpPr>
        <p:spPr>
          <a:xfrm>
            <a:off x="6948360" y="3141720"/>
            <a:ext cx="1944720" cy="105984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9999"/>
                </a:solidFill>
                <a:latin typeface="Verdana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Verdana"/>
              </a:rPr>
              <a:t>Disposing of da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"/>
          <p:cNvSpPr/>
          <p:nvPr/>
        </p:nvSpPr>
        <p:spPr>
          <a:xfrm>
            <a:off x="395280" y="155736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Verdana"/>
              </a:rPr>
              <a:t>Inform and get cons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"/>
          <p:cNvSpPr/>
          <p:nvPr/>
        </p:nvSpPr>
        <p:spPr>
          <a:xfrm>
            <a:off x="900000" y="2205000"/>
            <a:ext cx="14292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"/>
          <p:cNvSpPr/>
          <p:nvPr/>
        </p:nvSpPr>
        <p:spPr>
          <a:xfrm>
            <a:off x="2843280" y="1628640"/>
            <a:ext cx="180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333399"/>
                </a:solidFill>
                <a:latin typeface="Verdana"/>
              </a:rPr>
              <a:t>Justification to proce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"/>
          <p:cNvSpPr/>
          <p:nvPr/>
        </p:nvSpPr>
        <p:spPr>
          <a:xfrm>
            <a:off x="2771640" y="5661000"/>
            <a:ext cx="129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333399"/>
                </a:solidFill>
                <a:latin typeface="Verdana"/>
              </a:rPr>
              <a:t>Respond to access reques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4869000"/>
            <a:ext cx="144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Verdana"/>
              </a:rPr>
              <a:t>Specify purpos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611280" y="5734080"/>
            <a:ext cx="1892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Verdana"/>
              </a:rPr>
              <a:t>Only gather what is requir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"/>
          <p:cNvSpPr/>
          <p:nvPr/>
        </p:nvSpPr>
        <p:spPr>
          <a:xfrm flipH="1" flipV="1">
            <a:off x="1618920" y="4365720"/>
            <a:ext cx="7308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539640" y="4292640"/>
            <a:ext cx="43200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"/>
          <p:cNvSpPr/>
          <p:nvPr/>
        </p:nvSpPr>
        <p:spPr>
          <a:xfrm>
            <a:off x="4643280" y="90792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333399"/>
                </a:solidFill>
                <a:latin typeface="Verdana"/>
              </a:rPr>
              <a:t>Keep accur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"/>
          <p:cNvSpPr/>
          <p:nvPr/>
        </p:nvSpPr>
        <p:spPr>
          <a:xfrm>
            <a:off x="7020000" y="5300640"/>
            <a:ext cx="172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333399"/>
                </a:solidFill>
                <a:latin typeface="Verdana"/>
              </a:rPr>
              <a:t>Keep secure and dispose securel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5003640" y="5300640"/>
            <a:ext cx="158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333399"/>
                </a:solidFill>
                <a:latin typeface="Verdana"/>
              </a:rPr>
              <a:t>Disclose only if compatible or allowable exception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"/>
          <p:cNvSpPr/>
          <p:nvPr/>
        </p:nvSpPr>
        <p:spPr>
          <a:xfrm>
            <a:off x="6804000" y="1268280"/>
            <a:ext cx="151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333399"/>
                </a:solidFill>
                <a:latin typeface="Verdana"/>
              </a:rPr>
              <a:t>Have a retention polic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3348000" y="4437000"/>
            <a:ext cx="64764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"/>
          <p:cNvSpPr/>
          <p:nvPr/>
        </p:nvSpPr>
        <p:spPr>
          <a:xfrm flipH="1" flipV="1">
            <a:off x="4787640" y="4365360"/>
            <a:ext cx="64764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"/>
          <p:cNvSpPr/>
          <p:nvPr/>
        </p:nvSpPr>
        <p:spPr>
          <a:xfrm>
            <a:off x="3708360" y="2276640"/>
            <a:ext cx="35892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076360" y="1628640"/>
            <a:ext cx="14292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5796000" y="2133720"/>
            <a:ext cx="100800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"/>
          <p:cNvSpPr/>
          <p:nvPr/>
        </p:nvSpPr>
        <p:spPr>
          <a:xfrm>
            <a:off x="7380360" y="2205000"/>
            <a:ext cx="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"/>
          <p:cNvSpPr/>
          <p:nvPr/>
        </p:nvSpPr>
        <p:spPr>
          <a:xfrm flipH="1" flipV="1">
            <a:off x="5796000" y="4220640"/>
            <a:ext cx="1728720" cy="100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7812000" y="436536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539640" y="3141720"/>
            <a:ext cx="1728720" cy="105984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9999"/>
                </a:solidFill>
                <a:latin typeface="Verdana"/>
              </a:rPr>
              <a:t>Begin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Verdana"/>
              </a:rPr>
              <a:t>Getting the Da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"/>
          <p:cNvSpPr/>
          <p:nvPr/>
        </p:nvSpPr>
        <p:spPr>
          <a:xfrm>
            <a:off x="3492360" y="3141720"/>
            <a:ext cx="2016360" cy="105984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9999"/>
                </a:solidFill>
                <a:latin typeface="Verdana"/>
              </a:rPr>
              <a:t>Middl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Verdana"/>
              </a:rPr>
              <a:t>While you have the da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948360" y="3141720"/>
            <a:ext cx="1944720" cy="105984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9999"/>
                </a:solidFill>
                <a:latin typeface="Verdana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Verdana"/>
              </a:rPr>
              <a:t>Disposing of da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395280" y="1557360"/>
            <a:ext cx="165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333399"/>
                </a:solidFill>
                <a:latin typeface="Verdana"/>
              </a:rPr>
              <a:t>Inform and get cons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900000" y="2205000"/>
            <a:ext cx="14292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2843280" y="1628640"/>
            <a:ext cx="180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Verdana"/>
              </a:rPr>
              <a:t>Justification to proce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"/>
          <p:cNvSpPr/>
          <p:nvPr/>
        </p:nvSpPr>
        <p:spPr>
          <a:xfrm>
            <a:off x="2771640" y="5661000"/>
            <a:ext cx="151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Verdana"/>
              </a:rPr>
              <a:t>Respond to access reques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4869000"/>
            <a:ext cx="144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333399"/>
                </a:solidFill>
                <a:latin typeface="Verdana"/>
              </a:rPr>
              <a:t>Specify purpos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"/>
          <p:cNvSpPr/>
          <p:nvPr/>
        </p:nvSpPr>
        <p:spPr>
          <a:xfrm>
            <a:off x="900000" y="5734080"/>
            <a:ext cx="1603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333399"/>
                </a:solidFill>
                <a:latin typeface="Verdana"/>
              </a:rPr>
              <a:t>Only gather what is requir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1618920" y="4365720"/>
            <a:ext cx="7308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539640" y="4292640"/>
            <a:ext cx="43200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"/>
          <p:cNvSpPr/>
          <p:nvPr/>
        </p:nvSpPr>
        <p:spPr>
          <a:xfrm>
            <a:off x="4643280" y="907920"/>
            <a:ext cx="12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Verdana"/>
              </a:rPr>
              <a:t>Keep accur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"/>
          <p:cNvSpPr/>
          <p:nvPr/>
        </p:nvSpPr>
        <p:spPr>
          <a:xfrm>
            <a:off x="7020000" y="5300640"/>
            <a:ext cx="172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333399"/>
                </a:solidFill>
                <a:latin typeface="Verdana"/>
              </a:rPr>
              <a:t>Keep secure and dispose securel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"/>
          <p:cNvSpPr/>
          <p:nvPr/>
        </p:nvSpPr>
        <p:spPr>
          <a:xfrm>
            <a:off x="4716360" y="5300640"/>
            <a:ext cx="187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Verdana"/>
              </a:rPr>
              <a:t>Disclose only if compatible or allowable exception</a:t>
            </a:r>
            <a:r>
              <a:rPr b="0" lang="en-IE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"/>
          <p:cNvSpPr/>
          <p:nvPr/>
        </p:nvSpPr>
        <p:spPr>
          <a:xfrm>
            <a:off x="6804000" y="1268280"/>
            <a:ext cx="151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333399"/>
                </a:solidFill>
                <a:latin typeface="Verdana"/>
              </a:rPr>
              <a:t>Have a retention polic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3348000" y="4437000"/>
            <a:ext cx="64764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4787640" y="4365360"/>
            <a:ext cx="64764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"/>
          <p:cNvSpPr/>
          <p:nvPr/>
        </p:nvSpPr>
        <p:spPr>
          <a:xfrm>
            <a:off x="3708360" y="2276640"/>
            <a:ext cx="35892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5076360" y="1628640"/>
            <a:ext cx="14292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"/>
          <p:cNvSpPr/>
          <p:nvPr/>
        </p:nvSpPr>
        <p:spPr>
          <a:xfrm flipH="1">
            <a:off x="5796000" y="2133720"/>
            <a:ext cx="100800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"/>
          <p:cNvSpPr/>
          <p:nvPr/>
        </p:nvSpPr>
        <p:spPr>
          <a:xfrm>
            <a:off x="7380360" y="2205000"/>
            <a:ext cx="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5796000" y="4220640"/>
            <a:ext cx="1728720" cy="100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7812000" y="436536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539640" y="3141720"/>
            <a:ext cx="1728720" cy="105984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9999"/>
                </a:solidFill>
                <a:latin typeface="Verdana"/>
              </a:rPr>
              <a:t>Begin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Verdana"/>
              </a:rPr>
              <a:t>Getting the Da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"/>
          <p:cNvSpPr/>
          <p:nvPr/>
        </p:nvSpPr>
        <p:spPr>
          <a:xfrm>
            <a:off x="3492360" y="3141720"/>
            <a:ext cx="2016360" cy="105984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9999"/>
                </a:solidFill>
                <a:latin typeface="Verdana"/>
              </a:rPr>
              <a:t>Middl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Verdana"/>
              </a:rPr>
              <a:t>While you have the da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"/>
          <p:cNvSpPr/>
          <p:nvPr/>
        </p:nvSpPr>
        <p:spPr>
          <a:xfrm>
            <a:off x="6948360" y="3141720"/>
            <a:ext cx="1944720" cy="105984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9999"/>
                </a:solidFill>
                <a:latin typeface="Verdana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Verdana"/>
              </a:rPr>
              <a:t>Disposing of da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"/>
          <p:cNvSpPr/>
          <p:nvPr/>
        </p:nvSpPr>
        <p:spPr>
          <a:xfrm>
            <a:off x="395280" y="1557360"/>
            <a:ext cx="165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333399"/>
                </a:solidFill>
                <a:latin typeface="Verdana"/>
              </a:rPr>
              <a:t>Inform and get cons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"/>
          <p:cNvSpPr/>
          <p:nvPr/>
        </p:nvSpPr>
        <p:spPr>
          <a:xfrm>
            <a:off x="900000" y="2205000"/>
            <a:ext cx="14292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2843280" y="1628640"/>
            <a:ext cx="180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333399"/>
                </a:solidFill>
                <a:latin typeface="Verdana"/>
              </a:rPr>
              <a:t>Justification to proce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"/>
          <p:cNvSpPr/>
          <p:nvPr/>
        </p:nvSpPr>
        <p:spPr>
          <a:xfrm>
            <a:off x="2771640" y="5661000"/>
            <a:ext cx="129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333399"/>
                </a:solidFill>
                <a:latin typeface="Verdana"/>
              </a:rPr>
              <a:t>Respond to access reques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"/>
          <p:cNvSpPr/>
          <p:nvPr/>
        </p:nvSpPr>
        <p:spPr>
          <a:xfrm>
            <a:off x="0" y="4869000"/>
            <a:ext cx="144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333399"/>
                </a:solidFill>
                <a:latin typeface="Verdana"/>
              </a:rPr>
              <a:t>Specify purpos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"/>
          <p:cNvSpPr/>
          <p:nvPr/>
        </p:nvSpPr>
        <p:spPr>
          <a:xfrm>
            <a:off x="900000" y="5734080"/>
            <a:ext cx="1603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333399"/>
                </a:solidFill>
                <a:latin typeface="Verdana"/>
              </a:rPr>
              <a:t>Only gather what is requir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1618920" y="4365720"/>
            <a:ext cx="7308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539640" y="4292640"/>
            <a:ext cx="43200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"/>
          <p:cNvSpPr/>
          <p:nvPr/>
        </p:nvSpPr>
        <p:spPr>
          <a:xfrm>
            <a:off x="4643280" y="90792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333399"/>
                </a:solidFill>
                <a:latin typeface="Verdana"/>
              </a:rPr>
              <a:t>Keep accur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"/>
          <p:cNvSpPr/>
          <p:nvPr/>
        </p:nvSpPr>
        <p:spPr>
          <a:xfrm>
            <a:off x="7020000" y="5300640"/>
            <a:ext cx="21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Verdana"/>
              </a:rPr>
              <a:t>Keep secure and dispose securel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"/>
          <p:cNvSpPr/>
          <p:nvPr/>
        </p:nvSpPr>
        <p:spPr>
          <a:xfrm>
            <a:off x="5003640" y="5300640"/>
            <a:ext cx="158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333399"/>
                </a:solidFill>
                <a:latin typeface="Verdana"/>
              </a:rPr>
              <a:t>Disclose only if compatible or allowable exception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"/>
          <p:cNvSpPr/>
          <p:nvPr/>
        </p:nvSpPr>
        <p:spPr>
          <a:xfrm>
            <a:off x="6804000" y="1268280"/>
            <a:ext cx="151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Verdana"/>
              </a:rPr>
              <a:t>Have a retention polic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3348000" y="4437000"/>
            <a:ext cx="64764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787640" y="4365360"/>
            <a:ext cx="64764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"/>
          <p:cNvSpPr/>
          <p:nvPr/>
        </p:nvSpPr>
        <p:spPr>
          <a:xfrm>
            <a:off x="3708360" y="2276640"/>
            <a:ext cx="35892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" name=""/>
          <p:cNvSpPr/>
          <p:nvPr/>
        </p:nvSpPr>
        <p:spPr>
          <a:xfrm flipH="1">
            <a:off x="5076360" y="1628640"/>
            <a:ext cx="14292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5796000" y="2133720"/>
            <a:ext cx="100800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"/>
          <p:cNvSpPr/>
          <p:nvPr/>
        </p:nvSpPr>
        <p:spPr>
          <a:xfrm>
            <a:off x="7380360" y="2205000"/>
            <a:ext cx="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"/>
          <p:cNvSpPr/>
          <p:nvPr/>
        </p:nvSpPr>
        <p:spPr>
          <a:xfrm flipH="1" flipV="1">
            <a:off x="5796000" y="4220640"/>
            <a:ext cx="1728720" cy="100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812000" y="436536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Electronic Communic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General DP Principles app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Telecom-specifi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Cookies’ on P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Caller ID (phon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Location Data (mobil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Directo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SPAM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Data Reten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Cold Calling’ opt-o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Definitions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</a:rPr>
              <a:t>Personal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000000"/>
                </a:solidFill>
                <a:latin typeface="Arial"/>
              </a:rPr>
              <a:t>Any Data relating to a </a:t>
            </a:r>
            <a:r>
              <a:rPr b="1" i="1" lang="en-IE" sz="2400" spc="-1" strike="noStrike" u="sng">
                <a:solidFill>
                  <a:srgbClr val="000000"/>
                </a:solidFill>
                <a:uFillTx/>
                <a:latin typeface="Arial"/>
              </a:rPr>
              <a:t>living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IE" sz="2400" spc="-1" strike="noStrike" u="sng">
                <a:solidFill>
                  <a:srgbClr val="000000"/>
                </a:solidFill>
                <a:uFillTx/>
                <a:latin typeface="Arial"/>
              </a:rPr>
              <a:t>identifiable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</a:rPr>
              <a:t> individu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000000"/>
                </a:solidFill>
                <a:latin typeface="Arial"/>
              </a:rPr>
              <a:t>Automated data  or  structured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</a:rPr>
              <a:t>manual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</a:rPr>
              <a:t>Manual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000000"/>
                </a:solidFill>
                <a:latin typeface="Arial"/>
              </a:rPr>
              <a:t>Structured by reference to individuals in a way that makes data readily acce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Good Practice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lain the basic principles to staf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 proced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cate responsibility for compliance and what sanctions may arise if not enforc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here to the  ‘need to know principle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dit checks and revie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Good Practice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procedure for complaints hand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edial steps when things go wro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vacy Notice on website and at point of contact with custome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DP in early in systems and policy propos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PC “free and friendly” consultancy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990720" y="3048120"/>
            <a:ext cx="769608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rther Guid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dataprotection.i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Definitions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Data Controll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a person who controls the contents and use of personal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Data Processor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A person who processes personal data on behalf of a data control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Definitions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0000"/>
                </a:solidFill>
                <a:latin typeface="Arial"/>
              </a:rPr>
              <a:t>Data Subjec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800" spc="-1" strike="noStrike">
                <a:solidFill>
                  <a:srgbClr val="000000"/>
                </a:solidFill>
                <a:latin typeface="Arial"/>
              </a:rPr>
              <a:t>an individual who is the subject of personal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0000"/>
                </a:solidFill>
                <a:latin typeface="Arial"/>
              </a:rPr>
              <a:t>Process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800" spc="-1" strike="noStrike">
                <a:solidFill>
                  <a:srgbClr val="000000"/>
                </a:solidFill>
                <a:latin typeface="Arial"/>
              </a:rPr>
              <a:t>Anything done with personal data, from collection to dispos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169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000000"/>
                </a:solidFill>
                <a:latin typeface="Arial"/>
              </a:rPr>
              <a:t>Sensitive Data (special protection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95280" y="2852640"/>
            <a:ext cx="8074080" cy="33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Physical or mental heal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Racial orig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Political opin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Religious or other belie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Sexual lif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Criminal convi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Alleged commission of off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Trade Union member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f86c2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Rights of Individu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to fairness when giving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to get a copy of their personal information – includes both computer and certain manual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to have wrong information corr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to opt out of marketing - includes mail &amp; pho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to complain to the Data Commissio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3T12:46:02Z</dcterms:created>
  <dc:creator>rd</dc:creator>
  <dc:description/>
  <dc:language>en-US</dc:language>
  <cp:lastModifiedBy>Philip G. Ormond</cp:lastModifiedBy>
  <dcterms:modified xsi:type="dcterms:W3CDTF">2008-08-08T11:19:50Z</dcterms:modified>
  <cp:revision>199</cp:revision>
  <dc:subject/>
  <dc:title>Data Protection and the Health Sector</dc:title>
</cp:coreProperties>
</file>