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670675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A051-0E83-4C09-B089-CECB9BB0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A0A5-B972-476D-90AA-44FDAE6C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92E0-C551-4FFC-BF0D-2A20F34A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F2C0-355C-4381-AB50-47973B1E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4674-03F8-4C03-9C31-6CC3995E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29C-A296-4A5A-9CDE-5BF1FAEB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F045-4978-43DD-A375-DE76285A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3BFE-B5A7-4047-9950-33241DDD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BE62-94AD-421A-BDEC-819B4EF1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284-751B-4B0B-B63A-2387ACD4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0B6B-F1F4-449A-BFC1-E4AEDFC3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5E0B-A405-44B6-9F7D-4FD06876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373D-074D-4AFC-85EF-D67B57A6F9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dataprotection.ie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609480"/>
            <a:ext cx="7720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ata Protection: Your Duties as a </a:t>
            </a:r>
            <a:r>
              <a:rPr b="0" i="1" lang="en-IE" sz="4400" spc="-1" strike="noStrike">
                <a:solidFill>
                  <a:srgbClr val="000000"/>
                </a:solidFill>
                <a:latin typeface="Arial"/>
              </a:rPr>
              <a:t>Data Controller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Obtain &amp; Process Fairly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2636640"/>
            <a:ext cx="8001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Data controller must give full information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5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500" spc="-1" strike="noStrike">
                <a:solidFill>
                  <a:srgbClr val="000000"/>
                </a:solidFill>
                <a:latin typeface="Arial"/>
              </a:rPr>
              <a:t>purpo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500" spc="-1" strike="noStrike">
                <a:solidFill>
                  <a:srgbClr val="000000"/>
                </a:solidFill>
                <a:latin typeface="Arial"/>
              </a:rPr>
              <a:t>disclose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500" spc="-1" strike="noStrike">
                <a:solidFill>
                  <a:srgbClr val="000000"/>
                </a:solidFill>
                <a:latin typeface="Arial"/>
              </a:rPr>
              <a:t>any other data necessary for “fairness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Third party data control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500" spc="-1" strike="noStrike">
                <a:solidFill>
                  <a:srgbClr val="000000"/>
                </a:solidFill>
                <a:latin typeface="Arial"/>
              </a:rPr>
              <a:t>must contact data subject to provide these detai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500" spc="-1" strike="noStrike">
                <a:solidFill>
                  <a:srgbClr val="000000"/>
                </a:solidFill>
                <a:latin typeface="Arial"/>
              </a:rPr>
              <a:t>must give name of original data controll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6858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Rul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Obtain &amp; Process Fairly 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One of these conditions requi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on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Legal obl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ontract with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Necessary to protect vital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Necessary for a public function (Just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necessary for ‘legitimate interest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8380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Rul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0769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Arial"/>
              </a:rPr>
              <a:t>Processing Sensitiv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0010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One of these additional conditions i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Explicit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Necessary under employment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To prevent injury or protect vital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Process the data of members/clients of non-profit or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Legal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For Medic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Statutory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914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Rul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191628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Arial"/>
              </a:rPr>
              <a:t>Fair obtaining - practi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0920" y="2636640"/>
            <a:ext cx="8001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Do people know you process their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did you get data directly from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Do they know all data types you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Do they know why you process their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administering training/exams; providing newslette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ed 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Part of obligations when obtaining to specify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annot expand purpose without reverting to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88000" y="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Rule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isclose only if compatible</a:t>
            </a:r>
            <a:r>
              <a:rPr b="0" lang="en-IE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eneral rule – no disclosure for different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xceptions made, to balance other interests of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ection 8 exce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vestigation of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llection of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curity of the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otect life &amp;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aw or court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egal advice and legal procee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o general “public interest”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84720" y="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Verdana"/>
              </a:rPr>
              <a:t>Rule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Disclosure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9440" y="2960640"/>
            <a:ext cx="799956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The Data Controller should have a policy in place to determine how requests for data from third parties are hand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This policy should be consulted by appropriate staff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Arial"/>
              </a:rPr>
              <a:t>Disclosure - prac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2924280"/>
            <a:ext cx="80010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se of bcc rather than cc fields on e-mails might be prefer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forming an employer about an employee’s training results might be a disclosure where the employee had personally arranged and paid for cou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Arial"/>
              </a:rPr>
              <a:t>Keep Safe and Sec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77724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Appropriate securit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ppropriate to the harm that might result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ppropriate to the nature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May have regard to cost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May have regard to the current stat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Staff must know and comply with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Internal review of security measures-part of Internal Audit  function ?</a:t>
            </a:r>
            <a:r>
              <a:rPr b="0" lang="en-GB" sz="2000" spc="-1" strike="noStrike">
                <a:solidFill>
                  <a:srgbClr val="f86c28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91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Rule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Arial"/>
              </a:rPr>
              <a:t>Security - prac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777240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are must also be taken regarding paper records, especially sensitive or financi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Ideally data not left in a way that non-relevant staff can access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Attention paid to how visitors move around an of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he Data Protection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air obtaining &amp;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86c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n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pecified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o dis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86c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unless “compati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afe and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284360" y="1700280"/>
            <a:ext cx="441972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ccurate, up-to-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levant, not exc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ten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ight of a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99cc00"/>
                </a:solidFill>
                <a:latin typeface="Arial"/>
              </a:rPr>
              <a:t>Data Protection Train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9440" y="3196800"/>
            <a:ext cx="799956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99cc00"/>
                </a:solidFill>
                <a:latin typeface="Arial"/>
              </a:rPr>
              <a:t>Obligation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on employer to ensure staff are aware of data protection oblig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Poli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A Code of Practice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erson in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562720" y="304920"/>
            <a:ext cx="28573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Accurate, Complete and Up-to-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3429000"/>
            <a:ext cx="8001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Longer personal  data is held, more likely it will be inaccurate and out-of-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Right to have errors rectified (see later)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8380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Times New Roman"/>
              </a:rPr>
              <a:t>Rule 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Relevant and not Excess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9440" y="3038040"/>
            <a:ext cx="799956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No right to ask for, or hold, information not relevant to service etc being provi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hallenge: who do  you need all this personal dat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8380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Times New Roman"/>
              </a:rPr>
              <a:t>Rule 6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Retain no longer than necess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2420640"/>
            <a:ext cx="78469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Legal obligations to hold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Custom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Do you need to hold </a:t>
            </a:r>
            <a:r>
              <a:rPr b="1" lang="en-NZ" sz="2400" spc="-1" strike="noStrike">
                <a:solidFill>
                  <a:srgbClr val="99cc00"/>
                </a:solidFill>
                <a:latin typeface="Arial"/>
              </a:rPr>
              <a:t>all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that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Payment records might have one retention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Exam results might have longer retention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redit card details retained with con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Must have policy thought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Defend retention as necessary for purp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90792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Times New Roman"/>
              </a:rPr>
              <a:t>Rule 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Arial"/>
              </a:rPr>
              <a:t>Right of Access: Empower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793960"/>
            <a:ext cx="822960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The Right of Access empowers individuals by enabling them to supervise the processing of their personal dat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80200" y="797040"/>
            <a:ext cx="21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le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Scope of Access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3212640"/>
            <a:ext cx="8001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Applies to all manual and electronic records in existence at the time of receipt of an access request – regardless of when the record was cre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Copy of information must be provided in permanent form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unless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data subject agrees otherwise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this is impossible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involves disproportionate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553080" y="457200"/>
            <a:ext cx="16002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What must be disclosed in an access requ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ersonal data h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urposes for process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ersons to whom data are dis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 source of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bject to confidentiality safegu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ogic involved in automated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Access Request -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3357360"/>
            <a:ext cx="7113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Shall be 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Data Subject shall provide sufficient information to identify one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Data Controller shall comply within 4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May charge a fee up to €6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1384560" cy="13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Opin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Exempt from an access request only if the expression of an opinion was given in confidence or under the understanding it would be treated as confid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References are not exempt in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High threshold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Work performance reports on colleagues are 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Interview notes-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Exempt from Access Reque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3284640"/>
            <a:ext cx="8001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Data relating to a claim of 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Data covered by legal privi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Data relating to a criminal invest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Certain research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Back-up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99cc00"/>
                </a:solidFill>
                <a:latin typeface="Arial"/>
              </a:rPr>
              <a:t>Data Protection Acts, 1988 &amp;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3138480"/>
          <a:ext cx="8229240" cy="271728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271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RIGH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fo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individu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IL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rs of personal d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2911680" y="2666880"/>
            <a:ext cx="32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The Acts crea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04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ccess: Exemptions (S.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ight of Access does not apply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if likely to prejudice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eventing, detecting or investigating offences, apprehending or prosecuting off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ecurity in a place of detention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ther (international relations, privileged information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Restricted Right of A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i="1" lang="en-IE" sz="2400" spc="-1" strike="noStrike">
                <a:solidFill>
                  <a:srgbClr val="ff0000"/>
                </a:solidFill>
                <a:latin typeface="Arial"/>
              </a:rPr>
              <a:t>does not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 apply where it would impair –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investigation of a crime, or assessment / collection of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86c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6c28"/>
                </a:solidFill>
                <a:latin typeface="Arial"/>
              </a:rPr>
              <a:t>Subject to case-by-case “prejudice”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nternational relations of th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egal professional privi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edical and social work data – special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atistical o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Back up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Other Access Exemp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000000"/>
                </a:solidFill>
                <a:latin typeface="Arial"/>
              </a:rPr>
              <a:t>Financial, Anti-fraud investig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National Consumer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iners, Receivers, Liquidators, Court inspe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Recognised accountants, aud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Company law insp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Central Bank/Financial Reg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Right to correct/erase/b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Section 6 of the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Data Subject makes a written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ersonal data must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Corrected, if inaccurate;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Deleted, if should not be h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Data Controller has 40 days to 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No fee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orrection or del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Personal data must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Corrected, if inaccurate;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Deleted, if should not be h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Note difference of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Inform those who got wrong or inaccura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Arial"/>
              </a:rPr>
              <a:t>Right of er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5480" y="2924280"/>
            <a:ext cx="77738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Doesn’t apply if you have a lawful purpose in retain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Such as auditing or accreditation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utomated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Key decisions cannot be made solely based on automated processing of pers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reditworth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or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nsent;  legal necessity;  contractual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Right to 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3560" y="2439720"/>
            <a:ext cx="777096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Section 6A(1) allows the data subject to object to the processing of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cc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Is “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likely to cause substantial damage or distress to him or her, or to another person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cc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The damage or distress is or would be unwarrant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DP/FOI Access to Personal Inform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P and FOI Acts reinforce one another in relation to personal access in the public se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fending access to  personal information as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human (DP)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citizen (FOI)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Party Access restricted under both 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OI access to personal information should sometimes prevail in the public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Right to opt out of direct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33526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ection 2(7) of the 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ata subject may opt out of direct marketing database  (e.g. a mailing 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ata controller must delete the data subject’s details (or stop using them for direct market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ata controller must reply within 4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Rights and Oblig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ights of “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data subject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” (= 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</a:rPr>
              <a:t>identifiable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</a:rPr>
              <a:t>living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individual) to control the use of their “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personal data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bligations on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“data controllers”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(“a person who controls the contents and use of personal data”) and “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data processors” (“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 person who processes personal data on behalf of a data controller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Arial"/>
              </a:rPr>
              <a:t>What is Direct Marke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34936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Direct marketing is a series of marketing strategies, using various delivery techniques designed to provide the receiver (consumers and companies) with information at a distance... (using) different means of approach e.g. broadcasting, printed press, mail, telephone, on-line-services).    It is used to sell products, to deliver information, public announcements, and for sales after-service, customer care services, charity and political appeals". (FEDM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lectronic Commun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636640"/>
            <a:ext cx="8001000" cy="36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ight to “opt-out” of </a:t>
            </a:r>
            <a:r>
              <a:rPr b="1" i="1" lang="en-IE" sz="3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unsolicited direct marketing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x-Directory customers (and most mobiles) automatically ‘opted-out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f not ex-directory, Contact your phone line provider and ask to be put on the National Directory Database ‘opt-out’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MS  and e-mail unsolicited marketing ban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Using Sensitiv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33ff"/>
                </a:solidFill>
                <a:latin typeface="Arial"/>
              </a:rPr>
              <a:t>EXTRA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conditions:  S.2B     (one only is needed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xplicit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ecessary under employment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on-profit body (political, philosophical, religious, trade-union) – its members /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ecessary for medical purposes          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</a:rPr>
              <a:t>(cont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Using Sensitiv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33ff"/>
                </a:solidFill>
                <a:latin typeface="Arial"/>
              </a:rPr>
              <a:t>EXTRA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conditions:       (one only is needed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ecessary to protect vital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ecessary for legal advice / legal cla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or elector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or substantial public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s prescribed by Min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Data Proces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gents and sub-contr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re must be a written contract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ata Controller must take reasonable steps to ensure compliance with security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9640" y="3141720"/>
            <a:ext cx="1728720" cy="105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9999"/>
                </a:solidFill>
                <a:latin typeface="Verdana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Getting the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3141720"/>
            <a:ext cx="2016360" cy="105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9999"/>
                </a:solidFill>
                <a:latin typeface="Verdana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While you have the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6948360" y="3141720"/>
            <a:ext cx="1944720" cy="105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9999"/>
                </a:solidFill>
                <a:latin typeface="Verdana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Disposing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1700280"/>
            <a:ext cx="74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Responsibilities on Data Controllers at the different s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9640" y="3141720"/>
            <a:ext cx="1728720" cy="105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9999"/>
                </a:solidFill>
                <a:latin typeface="Verdana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Getting the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492360" y="3141720"/>
            <a:ext cx="2016360" cy="105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9999"/>
                </a:solidFill>
                <a:latin typeface="Verdana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While you have the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6948360" y="3141720"/>
            <a:ext cx="1944720" cy="105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9999"/>
                </a:solidFill>
                <a:latin typeface="Verdana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Disposing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Verdana"/>
              </a:rPr>
              <a:t>Inform and get cons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220500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1628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Justification to pro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2771640" y="566100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Respond to access reque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869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Verdana"/>
              </a:rPr>
              <a:t>Specify purp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5734080"/>
            <a:ext cx="18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Verdana"/>
              </a:rPr>
              <a:t>Only gather what is requi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1618920" y="4365720"/>
            <a:ext cx="73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39640" y="429264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4643280" y="9079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Keep accur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530064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Keep secure and dispose secure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5003640" y="530064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Disclose only if compatible or allowable except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6804000" y="1268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Have a retention poli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348000" y="443700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4787640" y="4365360"/>
            <a:ext cx="647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3708360" y="2276640"/>
            <a:ext cx="358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076360" y="162864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96000" y="2133720"/>
            <a:ext cx="100800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738036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5796000" y="4220640"/>
            <a:ext cx="17287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12000" y="4365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9640" y="3141720"/>
            <a:ext cx="1728720" cy="105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9999"/>
                </a:solidFill>
                <a:latin typeface="Verdana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Getting the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3492360" y="3141720"/>
            <a:ext cx="2016360" cy="105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9999"/>
                </a:solidFill>
                <a:latin typeface="Verdana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While you have the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948360" y="3141720"/>
            <a:ext cx="1944720" cy="105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9999"/>
                </a:solidFill>
                <a:latin typeface="Verdana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Disposing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557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Inform and get cons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220500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2843280" y="1628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Verdana"/>
              </a:rPr>
              <a:t>Justification to pro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566100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Verdana"/>
              </a:rPr>
              <a:t>Respond to access reque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869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Specify purp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5734080"/>
            <a:ext cx="160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Only gather what is requi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1618920" y="4365720"/>
            <a:ext cx="73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39640" y="429264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9079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Verdana"/>
              </a:rPr>
              <a:t>Keep accur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7020000" y="530064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Keep secure and dispose secure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4716360" y="530064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Verdana"/>
              </a:rPr>
              <a:t>Disclose only if compatible or allowable exception</a:t>
            </a: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6804000" y="1268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Have a retention poli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348000" y="443700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4787640" y="4365360"/>
            <a:ext cx="647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3708360" y="2276640"/>
            <a:ext cx="358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076360" y="162864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796000" y="2133720"/>
            <a:ext cx="100800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738036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96000" y="4220640"/>
            <a:ext cx="17287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812000" y="4365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39640" y="3141720"/>
            <a:ext cx="1728720" cy="105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9999"/>
                </a:solidFill>
                <a:latin typeface="Verdana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Getting the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3492360" y="3141720"/>
            <a:ext cx="2016360" cy="105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9999"/>
                </a:solidFill>
                <a:latin typeface="Verdana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While you have the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6948360" y="3141720"/>
            <a:ext cx="1944720" cy="105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9999"/>
                </a:solidFill>
                <a:latin typeface="Verdana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Disposing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1557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Inform and get cons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900000" y="220500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1628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Justification to pro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566100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Respond to access reque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4869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Specify purp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5734080"/>
            <a:ext cx="160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Only gather what is requi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1618920" y="4365720"/>
            <a:ext cx="73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9640" y="429264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4643280" y="9079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Keep accur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7020000" y="530064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Verdana"/>
              </a:rPr>
              <a:t>Keep secure and dispose secure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5003640" y="530064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Verdana"/>
              </a:rPr>
              <a:t>Disclose only if compatible or allowable except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6804000" y="1268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Verdana"/>
              </a:rPr>
              <a:t>Have a retention poli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348000" y="443700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787640" y="4365360"/>
            <a:ext cx="647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2276640"/>
            <a:ext cx="358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076360" y="162864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796000" y="2133720"/>
            <a:ext cx="100800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738036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5796000" y="4220640"/>
            <a:ext cx="17287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812000" y="4365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lectronic Commun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eneral DP Principles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elecom-specif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okies’ on 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aller ID (ph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ocation Data (mob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ir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PAM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ata Re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ld Calling’ opt-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efinitions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Pers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Any Data relating to a </a:t>
            </a:r>
            <a:r>
              <a:rPr b="1" i="1" lang="en-IE" sz="2400" spc="-1" strike="noStrike" u="sng">
                <a:solidFill>
                  <a:srgbClr val="000000"/>
                </a:solidFill>
                <a:uFillTx/>
                <a:latin typeface="Arial"/>
              </a:rPr>
              <a:t>living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400" spc="-1" strike="noStrike" u="sng">
                <a:solidFill>
                  <a:srgbClr val="000000"/>
                </a:solidFill>
                <a:uFillTx/>
                <a:latin typeface="Arial"/>
              </a:rPr>
              <a:t>identifiable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 individ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Automated data  or  structured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manu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Manu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Structured by reference to individuals in a way that makes data readily 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Good Practice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basic principles to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e responsibility for compliance and what sanctions may arise if not enfo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here to the  ‘need to know principl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 checks and re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Good Practic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procedure for complaints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dial steps when things go 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 Notice on website and at point of contact with custom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DP in early in systems and policy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C “free and friendly” consultancy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3048120"/>
            <a:ext cx="76960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Gui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ataprotection.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efinitions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ata C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 person who controls the contents and use of pers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ata Processo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 person who processes personal data on behalf of a data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efinitions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Data Su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an individual who is the subject of pers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Proces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Anything done with personal data, from collection to dis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Sensitive Data (special protec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074080" cy="33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hysical or mental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cial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olitical 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ligious or other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exua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riminal conv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lleged commission of off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rade Union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86c2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Rights of Individ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o fairness when giv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o get a copy of their personal information – includes both computer and certain manual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o have wrong information corr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o opt out of marketing - includes mail &amp; ph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o complain to the Data Commissio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12:46:02Z</dcterms:created>
  <dc:creator>rd</dc:creator>
  <dc:description/>
  <dc:language>en-US</dc:language>
  <cp:lastModifiedBy>Philip G. Ormond</cp:lastModifiedBy>
  <dcterms:modified xsi:type="dcterms:W3CDTF">2008-08-08T11:19:50Z</dcterms:modified>
  <cp:revision>199</cp:revision>
  <dc:subject/>
  <dc:title>Data Protection and the Health Sector</dc:title>
</cp:coreProperties>
</file>